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heave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all the earth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5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Transfiguration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57: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will not accep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bull from your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 he-go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r fol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y be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forest is m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attle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thousand h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know all the bi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ai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mo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field is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were hung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ould not tell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world and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s in it is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65104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eat the flesh of bul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drink the blood of goa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fer to God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crifice of thanksgiv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ay your v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Most Hig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4763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all upon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day of troub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deliver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shall glorify me.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o the wicked God say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What right hav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cite my statut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take my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your li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hate discipl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cast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behind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see thie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ir friend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 keep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dulter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21932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ighty One, God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s and summons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rising of the su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its set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give your mo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rein for ev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tong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ames de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it and sp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your broth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lander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ther’s 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hings you have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have been sil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thought that I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s one like yourself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now I rebuke you,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y the charge befor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k this, th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ho forget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t I rend, and t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none to deli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bring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ir sacrifice honor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ose who or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way a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how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lvation of God!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Z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erfection of beau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shines fo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God comes, and d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keep sile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whom is a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vouring fi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und about whom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mighty st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calls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s ab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peop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be judg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Gather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faithful on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a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me by sacrifice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decl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 alone is judg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238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Hear O my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will 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Israel, I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ify against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God, y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 not reprov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sacrific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burnt offerings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tinually before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3:26Z</dcterms:modified>
  <cp:revision>99</cp:revision>
  <dc:subject/>
  <dc:title>PowerPoint Presentation</dc:title>
</cp:coreProperties>
</file>