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95DD-F1A0-4E20-AADC-AF98CC6A6957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CD84-BABF-4C32-811E-497C93D8A54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63D1-A7C7-492E-85C1-651A53C5DC06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97B4-E22B-4734-9634-1E9F4DA4AF4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2A3B-EBE9-4DB5-A0C3-EA15D2A3A75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B598-B95D-4D03-B3A0-09DF759C056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CD1E-F7EF-46D4-A402-6D2DCC3A6AD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6CB0-F650-4076-97F9-24FC5746424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45720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3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0" y="1981080"/>
            <a:ext cx="9144000" cy="274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ur soul wait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or the Lor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ho is our help and shield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3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0" y="114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Lent, Easter &amp; Trinity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33:20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0" y="76320"/>
            <a:ext cx="9144000" cy="48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333399"/>
                </a:solidFill>
                <a:latin typeface="Times New Roman"/>
              </a:rPr>
              <a:t>People: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5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et all the earth fear th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ord, let all the 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habitants of the worl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tand in awe! 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3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0" y="1981080"/>
            <a:ext cx="9144000" cy="274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ur soul wait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or the Lor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ho is our help and shield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3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0" y="114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Lent, Easter &amp; Trinity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33:20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0" y="533520"/>
            <a:ext cx="914400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or the Lord spoke,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nd it came to be;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 Lord commanded,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nd it stood forth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0" y="76320"/>
            <a:ext cx="914400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664d"/>
                </a:solidFill>
                <a:latin typeface="Times New Roman"/>
              </a:rPr>
              <a:t>People: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01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baseline="30000">
                <a:solidFill>
                  <a:srgbClr val="333399"/>
                </a:solidFill>
                <a:latin typeface="Times New Roman"/>
              </a:rPr>
              <a:t>10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Lord brings th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counsel of the nation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o nothing and frustrate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the plans of the peoples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76320" y="45720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 counsel of the Lord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stands for ever,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 thoughts of God’s heart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o all generations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0" y="76320"/>
            <a:ext cx="9144000" cy="47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333399"/>
                </a:solidFill>
                <a:latin typeface="Times New Roman"/>
              </a:rPr>
              <a:t>People: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0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lessed is the natio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hose God is the Lord, th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people whom the Lord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as chosen as a heritage!   </a:t>
            </a:r>
            <a:r>
              <a:rPr b="1" lang="en-US" sz="5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3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0" y="1981080"/>
            <a:ext cx="9144000" cy="274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ur soul wait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or the Lor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ho is our help and shield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3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0" y="114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Lent, Easter &amp; Trinity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33:20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52280" y="609480"/>
            <a:ext cx="883944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13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 Lord looks down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rom heaven,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nd sees all peoples;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104760"/>
            <a:ext cx="914400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333399"/>
                </a:solidFill>
                <a:latin typeface="Times New Roman"/>
              </a:rPr>
              <a:t>People: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01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baseline="30000">
                <a:solidFill>
                  <a:srgbClr val="333399"/>
                </a:solidFill>
                <a:latin typeface="Times New Roman"/>
              </a:rPr>
              <a:t>14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Lord sits enthron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looks forth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n all the inhabitant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f the earth,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52280" y="685800"/>
            <a:ext cx="883944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baseline="30000">
                <a:solidFill>
                  <a:srgbClr val="333399"/>
                </a:solidFill>
                <a:latin typeface="Times New Roman"/>
              </a:rPr>
              <a:t>15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ashioning the heart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f them all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observing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ll their deeds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76320" y="76320"/>
            <a:ext cx="9067680" cy="44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joice in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you righteous!  Delight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praise, O you upright!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533520"/>
            <a:ext cx="91440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16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 king is not saved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y his great army;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 warrior is not delivered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y his great strength.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0" y="15228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800" spc="-1" strike="noStrike">
                <a:solidFill>
                  <a:srgbClr val="00664d"/>
                </a:solidFill>
                <a:latin typeface="Times New Roman"/>
              </a:rPr>
              <a:t>People: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baseline="30000">
                <a:solidFill>
                  <a:srgbClr val="333399"/>
                </a:solidFill>
                <a:latin typeface="Times New Roman"/>
              </a:rPr>
              <a:t>17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war horse is a vai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ope for victory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despite its grea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might it cannot save.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3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0" y="1981080"/>
            <a:ext cx="9144000" cy="274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ur soul wait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or the Lor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ho is our help and shield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3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0" y="114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Lent, Easter &amp; Trinity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33:20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76320"/>
            <a:ext cx="914400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18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ehold, the eye of the Lord is on those who are faithful and hope for God’s steadfast love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19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o deliver their souls from death,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nd to keep them alive in famine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228600"/>
            <a:ext cx="9144000" cy="40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333399"/>
                </a:solidFill>
                <a:latin typeface="Times New Roman"/>
              </a:rPr>
              <a:t>People: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baseline="30000">
                <a:solidFill>
                  <a:srgbClr val="333399"/>
                </a:solidFill>
                <a:latin typeface="Times New Roman"/>
              </a:rPr>
              <a:t>20 </a:t>
            </a:r>
            <a:r>
              <a:rPr b="1" lang="en-US" sz="5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ur soul waits for the Lord, who is our help and shield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0" y="457200"/>
            <a:ext cx="91440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r heart is gla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cause we tru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God’s holy name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0" y="76320"/>
            <a:ext cx="914400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333399"/>
                </a:solidFill>
                <a:latin typeface="Times New Roman"/>
              </a:rPr>
              <a:t>People: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baseline="30000">
                <a:solidFill>
                  <a:srgbClr val="333399"/>
                </a:solidFill>
                <a:latin typeface="Times New Roman"/>
              </a:rPr>
              <a:t>22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et your steadfast lov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 Lord, be upon u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even as we hope in you.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3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0" y="1981080"/>
            <a:ext cx="9144000" cy="274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ur soul wait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or the Lor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ho is our help and shield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3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0" y="114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Lent, Easter &amp; Trinity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33:20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3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0" y="23623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oul wa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is our help and shiel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3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0" y="114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Lent, Easter &amp; Trinity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33:20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 saints, and s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pow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usic bring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3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Charles Wesley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0" y="76320"/>
            <a:ext cx="914400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664d"/>
                </a:solidFill>
                <a:latin typeface="Times New Roman"/>
              </a:rPr>
              <a:t>People: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Praise the Lord with th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yre, make melody to th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ord, with the harp of  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en strings!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04920" y="1219320"/>
            <a:ext cx="8839080" cy="40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joice in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you righteous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light in prais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you upright!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aise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the lyr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ke melody to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the harp of ten strings!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ing to the Lord a new so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lay skillfull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 the string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loud shouts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pright is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ord of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se work is don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faithfulness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loves righteousn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justic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earth is full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eadfast love of the Lord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y the word of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heavens were mad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l their host by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reath of God’s mouth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gathered the water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sea as in a bott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put the deep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storehouses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all the ear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ear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all the inhabitant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worl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and in awe!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 Lord spok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t came to b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command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t stood forth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brings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unsel of the nation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noth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frustrates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lans of the peoples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609480"/>
            <a:ext cx="914400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3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Sing to the Lord a new song,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play skillfully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on the strings,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with loud shouts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ounsel of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ands for ev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thoughts of God’s hear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all generations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ed is the nat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se God is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people whom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s chosen as a heritage!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304920" y="19191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looks dow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heave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ees all peoples;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4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sits enthron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looks for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 all the inhabitant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earth,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5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ashioning the heart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m al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observ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ir deeds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king is not sav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his great army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warrior is not deliver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his great strength.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war horse is a vai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pe for victor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despite its grea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ight it cannot save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hold, the eye of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on those who are faithfu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hope for God’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eadfast love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deliver their souls from dea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o keep the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ive in famine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0 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r soul waits for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is our help and shield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r heart is gla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cause we tru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God’s holy name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15228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664d"/>
                </a:solidFill>
                <a:latin typeface="Times New Roman"/>
              </a:rPr>
              <a:t>People: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i="1" lang="en-US" sz="5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Upright is th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ord of the Lor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hose work is don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faithfulness.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304920" y="220824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your steadfast lo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Lord, be upon u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ven as we hope in you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3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0" y="1981080"/>
            <a:ext cx="9144000" cy="274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ur soul wait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or the Lor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ho is our help and shield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3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0" y="114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Lent, Easter &amp; Trinity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33:20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457200"/>
            <a:ext cx="91440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5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 Lord loves righteousness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nd justice;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 earth is full of the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steadfast love of the Lord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0" y="76320"/>
            <a:ext cx="914400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664d"/>
                </a:solidFill>
                <a:latin typeface="Times New Roman"/>
              </a:rPr>
              <a:t>People: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y the word of the Lor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heavens were mad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all their host by th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reath of God’s mouth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0" y="380880"/>
            <a:ext cx="91440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: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7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 Lord gathered the waters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of the sea as in a bottle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nd put the deeps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in storehouses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2-03-24T20:45:33Z</dcterms:modified>
  <cp:revision>72</cp:revision>
  <dc:subject/>
  <dc:title>PowerPoint Presentation</dc:title>
</cp:coreProperties>
</file>