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5AE-D3C2-4076-8487-29B7CF2B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560-58F0-4EDD-AFCA-D8ECF061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CD7-1991-412B-8784-7717D656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E03-945D-4C76-93A6-4E5E2188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342-9B3F-40B3-8306-D732A91B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78E-CA70-4F9B-AEDA-F3FDF89A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6E6-E085-47A9-BB6D-1655DBF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DFC-31D2-4F0B-9DB7-B4CFBE0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A9B-571E-48B2-BE50-64211A7F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B77-5582-446D-B1ED-97E298C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0EE-D2E3-41A8-8F32-7B02817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86A-8B40-4DCB-99FB-F4379D4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D041-3D0F-4FC9-9228-AD895B2E1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5:1-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now your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 your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5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23040" y="137160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5: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143000"/>
            <a:ext cx="62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aths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aithful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se who keep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’s covenan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 thy 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y way p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y f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5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620840" y="1066680"/>
            <a:ext cx="94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: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92232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ft up my soul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my God, in you I tru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e not be put to sha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not my enem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ult over 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none that wai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put to shame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m be asha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clot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reachery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me to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ways, O Lord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ch me your path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 in your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 me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the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salva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I wa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mindful of your merc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and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y have b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of ol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ember not the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you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my transgressio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rding to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membe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goodness, O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od and upright is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the Lord instruc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ners in the way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s th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at is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es them their way.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5:12Z</dcterms:modified>
  <cp:revision>51</cp:revision>
  <dc:subject/>
  <dc:title>PowerPoint Presentation</dc:title>
</cp:coreProperties>
</file>