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12C-1C35-421F-9BEA-AF9F0C07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0D5-E0A7-4CE0-ADE5-8A144C70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C54-A436-4A38-987F-479CA54F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BEB-0507-496C-B9F2-BA8B2C58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5BF-ADD6-4796-84E0-C190090A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F56-4B5C-4A80-98BC-A4C7F333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0DB-2E0F-4A50-A739-7F08384E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754-FF13-4636-89D7-F62C383D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F57-4D11-4DA0-B7AE-99A87E36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65C5-92F5-48F5-AF05-28911528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D49-16BA-4696-9E23-051CB813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648-AC17-4C0D-85E9-3CE17330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FC1A-3E33-48D8-BD3E-AC41A5128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Thanksgiving, General)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26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8600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has d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things fo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are filled with joy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Advent &amp; Lent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30:5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3623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eping may tar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comes joy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Lord resto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ortunes of Z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ere lik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rea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our mouth w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ed with laught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ur tongu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shouts of joy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they sai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ong the natio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The Lord has d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eat things for them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has d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eat things for u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gla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Restore our fortunes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the watercour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egeb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w in te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ap with shouts of jo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go forth weep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aring the seed for sowing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come ho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shouts of jo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rrying their sheaves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8:47Z</dcterms:modified>
  <cp:revision>31</cp:revision>
  <dc:subject/>
  <dc:title>Psalm</dc:title>
</cp:coreProperties>
</file>