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justice ro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like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flowing st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mos 5: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vows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d, and keep the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ose who surr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bring gif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One to be fear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uts off the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onarc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kes the rul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arth afrai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7636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Judah God is kn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name is great in Israel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abode has b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ablished in Sal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dwelling pl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Z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God bro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lashing arrow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ield, the sw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weapons of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glorio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majesti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 the everlas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uthearted w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ipped of their spoil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ank into slee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soldi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unable to 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h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your rebu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 of Jacob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th rider and hor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y stunn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deed are to be feare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an stand befor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once your ang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ous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20800"/>
            <a:ext cx="8839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uttered judgme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feared and was still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God aros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ablish judgm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ave all the oppr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human wr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praise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esidue of wr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gird upo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1:02Z</dcterms:modified>
  <cp:revision>133</cp:revision>
  <dc:subject/>
  <dc:title>PowerPoint Presentation</dc:title>
</cp:coreProperties>
</file>