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286000"/>
            <a:ext cx="9144000" cy="319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rises in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ustice rules our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90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 T Kimbrough, Jr. (Ps. 112:4,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have distributed freel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have given to the poo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ir righteous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dures for eve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ir horn is exalted in hon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1113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icked see 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re angr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gnash their tee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elt awa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desire of the wick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es to nothing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5335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are those wh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ear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greatly delight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’s commandment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descendents will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ghty in the lan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eneration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right will be bless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alth and riches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ir hou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ir righteous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dures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rise in the dark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a light for the uprigh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are gracio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rciful and righteo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well with those who dea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enerously and le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conduct their affai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just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righteous sh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ver be mov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will be remember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ever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not afrai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evil tiding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ir hearts are fir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usting in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they se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adversari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hearts are stead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will not be afrai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6:45Z</dcterms:modified>
  <cp:revision>265</cp:revision>
  <dc:subject/>
  <dc:title>PowerPoint Presentation</dc:title>
</cp:coreProperties>
</file>