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4370-9E1E-4A81-82A3-0622BCFBC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1A6D-558B-4466-BC51-70F43D0A7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08B3-9653-4F10-B90E-064F4D75C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7080-F2B1-4EF0-BDF6-3DFEB7F2E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0647-9EE4-4C45-A319-D73DC0D9D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2F27-31EA-4B6C-8424-5D4603409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4817-EE20-4C81-B1B2-E2789C27B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56F4-2604-4CC2-9B0C-B7BA98E91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423A-0DED-4C7C-9CC7-5F358CC6B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A744-8718-4505-B610-CB1A44F00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7301-7C8D-48DC-A563-1D12893C2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CA30-B7A6-4FFF-A54B-C7AB6D1E3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16E9A-B394-411E-BC40-84946F3094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salm 1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2971800"/>
            <a:ext cx="9144000" cy="161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aw of God is ju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viving the so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1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68200" y="1371600"/>
            <a:ext cx="108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Ps. 19: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219320"/>
            <a:ext cx="660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1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Lent, Easter &amp; General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1003320"/>
            <a:ext cx="883908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8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precepts of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ord are righ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joicing the heart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commandment of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ord is pur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nlightening the eyes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04920" y="1370160"/>
            <a:ext cx="88390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9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fear of the Lord is clea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nduring for ever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ordinances of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ord are tru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righteous altogeth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4920" y="1003320"/>
            <a:ext cx="8839080" cy="48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0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ore to be desir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re they than gol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ven much fine gold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weeter also than hone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drippings of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honeycomb.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1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oreover, by the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s your servant warned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keeping the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re is great rewa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4920" y="167652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2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But who can understan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ne’s own errors?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lear me from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idden fault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04920" y="638280"/>
            <a:ext cx="883908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3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so keep your servan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rom the insolent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then not hav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ominion over me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n I shall be blameles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innocent of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reat transgressi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04920" y="1125360"/>
            <a:ext cx="883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4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Let the words of my mout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the meditatio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my hear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e acceptable in your sigh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 Lord, my rock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my redeemer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981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r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mandments of lif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ve 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earn wisdo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1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510320" y="1219320"/>
            <a:ext cx="108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Bar. 3: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922320"/>
            <a:ext cx="584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2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General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1308240"/>
            <a:ext cx="8839080" cy="40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heavens are telling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glory of God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he firmament proclaim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od’s handiwork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ay to da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ours forth speech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night to nigh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eclares knowledg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2284560"/>
            <a:ext cx="8839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re is no speec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r are there words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ir voice is not heard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et their voice goes ou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rough all the earth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their words t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end of the worl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820800"/>
            <a:ext cx="88390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m God has set a ten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the sun, </a:t>
            </a:r>
            <a:br>
              <a:rPr sz="4800"/>
            </a:b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ich comes for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ike a bridegroo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aving his chambe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runs its course with jo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ike a strong ma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1125360"/>
            <a:ext cx="883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ts rising is from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nd of the heaven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its circui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the end of them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there is nothi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id from its heat.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04920" y="1370160"/>
            <a:ext cx="88390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7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aw of the Lord is perfec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viving the soul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testimony of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ord is sur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aking wise the simple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3T15:42:21Z</dcterms:modified>
  <cp:revision>39</cp:revision>
  <dc:subject/>
  <dc:title>PowerPoint Presentation</dc:title>
</cp:coreProperties>
</file>