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71:1-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you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ope, my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from my you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71:1-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114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Holy Week &amp;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71: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not cast me of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time of old ag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sake me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my strength is sp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55268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my enemies spea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cerning m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watch for my lif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sult together, say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God has forsaken him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ursue and seize hi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re is no deliverer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2025720"/>
            <a:ext cx="883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 be not far from m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my God, make hast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help me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06668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I take refug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me never be put to sham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your righteous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liver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rescue 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cline your ear to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ave m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to me a rock of refug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trong fortre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ave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you are my roc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y fortre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scue me, O my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e h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wick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e grasp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njust and cru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you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my hop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trust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my you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1132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on you I have lean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my birth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was you who took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my mother’s womb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praise is continual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you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have been an examp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man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you are m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rong refu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mouth is fill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your prai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ith your glo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0:35Z</dcterms:modified>
  <cp:revision>127</cp:revision>
  <dc:subject/>
  <dc:title>PowerPoint Presentation</dc:title>
</cp:coreProperties>
</file>