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2BEF-814D-4617-870B-759027D08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FF27-C096-4BE3-82C8-805A8391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3E4D-A313-479F-A3EF-45C5C96D1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796F-00DF-4C95-AA82-452F8B274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B9B5-FABA-4BED-A9F9-47D8A5EB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C855-8CE8-43D3-83FF-C9D5864E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8B1C-6EEF-4A8F-BD97-D0C8DD7A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B929-6983-432D-AB5E-DEC3C920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ABAA-3B00-48CF-B42A-C19B0CD3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1505-E554-4D58-9F08-6DAD5B46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A9C0-CD8B-4413-BA91-18D3EF29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EF33-3269-408E-9EE1-23FC1A4A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F19A-E3D9-432A-8073-149F5AA4A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19:1-8, 33-48, 129-14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119:1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59092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word is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mp to my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light to my path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19:1-8,33-48,129-14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will praise you w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 upright hear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I learn y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ighteous ordinanc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66760" y="220824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observe your statute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forsake m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 utterly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each me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way of your statute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 will keep 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e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me understand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I may keep your la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observe it wi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whole hear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5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ad me in the pa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your commandment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I delight in 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cline my hear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your testimoni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not to gai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7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urn my eyes fr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oking at vanitie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give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e in your way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nfirm to your servan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promis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ich is for tho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fear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9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urn away the reproac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ch I drea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your ordinanc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goo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0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hold, I lo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your precept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your righteous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me life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 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119: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66688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hall walk at liber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I have s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precepts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19:1-8,33-48,129-14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Let your steadfast lo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e to me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salvation accord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your promise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n shall I have an answ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ose who taunt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I trust in your wo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3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ake not the word of tru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tterly out of my mou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my hope 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your ordinanc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4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keep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aw continuall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ever and ever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5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 shall walk at liber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I have sou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precept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6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also speak of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stimonies before ruler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shall not b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ut to shame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7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I find my deli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your commandment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ch I lov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8432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revere your commandmen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ich I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I will meditat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your statutes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29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testimoni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wonderful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fore my soul keeps the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0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unfolding of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ords gives light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mparts understand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simp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3 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119:1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36232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ord is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mp unto my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light unto my path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19:1-8,33-48,129-14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1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open mouth I pan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cause I long f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commandment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2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urn to me and b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racious to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you are just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ose who love your na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3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eep steady my step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ccording to your promis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let no iniquit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et dominion over 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4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deem me fro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uman oppressio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I may kee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precept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5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 your fa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ine upon your servan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each me your statut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6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eyes sh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reams of tear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cause your la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not kept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66760" y="265104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7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ighteous are you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right are your judgment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8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have appointed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stimonies 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ighteous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in all faithfulnes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9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zeal consumes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cause my fo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get your word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66760" y="265104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40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promise is well tri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your servant loves 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06668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essed are those who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y is blameles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walk in the la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Lor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41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am small and despis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et I do not forge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precept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42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righteous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righteous for ev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your law is tru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43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ouble and anguis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ve come upon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your commandmen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my deligh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44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testimoni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re righteous for ever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me understand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I may live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are those w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keep God’s testimoni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seek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their whole heart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760" y="265104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who also do no wro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walk in God’s way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have command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precep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be kept diligentl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that my ways m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steadfa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keeping your statut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n I shall not b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ut to sha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ving my eyes fix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your commandment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6:57:26Z</dcterms:modified>
  <cp:revision>18</cp:revision>
  <dc:subject/>
  <dc:title>Psalm</dc:title>
</cp:coreProperties>
</file>