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you ar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uge and my str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resent help in trou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New Year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46: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ll our days pa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way under your wr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years come to an 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si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years of our li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threescore and t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even by rea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strength fourscor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their span is bu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il and troubl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are soon g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fly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onsiders the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ang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wesome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wra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teach us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umber our d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recei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heart of wisdom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65104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turn, O Lord! How long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pity on your servan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tisfy us in the mor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r steadfast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rejoi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glad all our day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us glad as many d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you have afflicted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s many yea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have seen ev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work be manife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r serva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glorious pow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ir child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92700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favor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God be upon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establish the wor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our ha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s, establish the wor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our hand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7472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you have been 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welling pl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gener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the mountai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re brought fo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ever you had form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arth and the wor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everlast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rlasting you are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turn us back to the du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ay, “Turn bac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ortal ones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a thousand y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s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but as yester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it is pa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as a wat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weep them awa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like a drea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grass which is renew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morn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morning 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ourishes and is renew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evening 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des and withers.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e are consum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ang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wr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overwhelm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set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iquities before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secret sins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ght of your countena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2:47Z</dcterms:modified>
  <cp:revision>162</cp:revision>
  <dc:subject/>
  <dc:title>PowerPoint Presentation</dc:title>
</cp:coreProperties>
</file>