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ighty for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ulwark never fai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rtin Lu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Frederick H. Hedge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, behold the wo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wrou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solations in the eart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makes wars cea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end of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eaks the bo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tters the spea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urns the shiel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fir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Be still, and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 am Go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exal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exalted in the earth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6588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of hos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with 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Jacob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our refug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and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am God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Ho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46:10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11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144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is our refu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treng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very pres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in trou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fore we will not f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gh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uld chan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gh the mounta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ke in the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sea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its wa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ar and foa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the mounta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emble with its tumul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is a river w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s makes gla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ity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habit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Most Hi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is in the mid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c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shall not be mov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will help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the dawn of the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ations ra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kingdoms tott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voice resoun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arth mel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65888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of hos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with 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Jacob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our refug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2:42Z</dcterms:modified>
  <cp:revision>90</cp:revision>
  <dc:subject/>
  <dc:title>PowerPoint Presentation</dc:title>
</cp:coreProperties>
</file>