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C160-34C8-4AAD-A79F-C3B8DA873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9291-8FC5-473A-8A1E-60F394C5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53BD-AA4E-46F7-9B33-2BC55DDA0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3120-5056-449B-9FB3-7A8D0334A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87AC-0D99-4983-8015-66BA673A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DAE6-B4E2-487A-9FC2-8A6DB5AE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F5C1-AA56-4EB2-B3C4-E160915C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65B8-E15A-487C-B509-A6F51020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6DC0-97CD-4B64-B759-B86BE055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C46D-8364-40F4-AF5E-97780580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3DE5-F878-4A61-B632-44EF3AF9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8447-0C5B-4795-8DCE-69E410E0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0CE1-B933-48A8-9A21-8215A0E5F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25:1-1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mak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know your way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me in your tru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ach m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5:1-1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23040" y="1371600"/>
            <a:ext cx="164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25:4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a,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5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1143000"/>
            <a:ext cx="62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Advent &amp; General)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04920" y="112536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paths of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re steadfast lo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faithfulnes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ose who keep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’s covenant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stimonies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me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me in thy righteousne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thy way pl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my fac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5:1-1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7620840" y="1066680"/>
            <a:ext cx="94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5:8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0" y="922320"/>
            <a:ext cx="585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Lent)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04920" y="393840"/>
            <a:ext cx="8839080" cy="59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you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lift up my soul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my God, in you I tru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me not be put to sham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not my enemi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xult over me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04920" y="173520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none that wait for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put to shame;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them be asham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are cloth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treachery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304920" y="2101680"/>
            <a:ext cx="8839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 me to kno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ways, O Lord;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ach me your paths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04920" y="942840"/>
            <a:ext cx="8839080" cy="48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ad me in your tru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each me,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you are the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my salvation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you I wai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day long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04920" y="173520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mindful of your merc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and of you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eadfast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y have be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of old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member not the si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my yout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r my transgression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ccording to your steadfa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ve remember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sake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goodness, O Lord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od and upright is the Lor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fore the Lord instruc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nners in the way,</a:t>
            </a:r>
            <a:br>
              <a:rPr sz="4800"/>
            </a:b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leads the humb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what is righ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eaches them their way.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2-18T00:05:12Z</dcterms:modified>
  <cp:revision>51</cp:revision>
  <dc:subject/>
  <dc:title>PowerPoint Presentation</dc:title>
</cp:coreProperties>
</file>