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7F0-31E8-4BDE-8DBD-7384CF05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300-CE34-40FB-9ADA-AFF2B769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71F-BEA1-40E0-A6E5-1AB20191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29D-EA12-49DF-8EC2-D23A55FE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999-4A02-42D0-A5E5-EF666384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9C0-F4A8-4CB9-8BD6-40AF1F45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2C3-F82D-4803-8BC4-05E97C95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2F3-489E-4BE2-BDF5-38C7EE99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FA3-6DC9-4CCB-B4A2-035EA25C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36A-A03E-4974-BB1A-FD47FBD7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0DE-FDC7-49D2-92E3-7F608217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796-9CE8-4AF6-82B1-A578FF50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4C28-14E2-445A-A4F2-92E31B90C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(Lent, Funerals/Memorial Services,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20:1-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dist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ry to the Lor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Deliver me, O Lord.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29384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 of the depth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ry to you, O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hear my voic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ears be attenti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voic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upplication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f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ould mark iniquiti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ho could stan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re is forgive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you m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worship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wait for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wai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Lord’s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op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waits for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re than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ch for the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re than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ch for the morn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 Israel, hope in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ith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Lord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enteous redemp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Lord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deem Isra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all iniquitie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9:05Z</dcterms:modified>
  <cp:revision>33</cp:revision>
  <dc:subject/>
  <dc:title>Psalm</dc:title>
</cp:coreProperties>
</file>