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CC0C-D161-484C-9312-D2C8854A1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360E-1BEF-4520-B4BE-E5355104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3946-7B43-49A1-8D4B-3D3043819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1938-269C-4127-8ADC-E24C65384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31FA-9D1B-4A39-8A95-DAC90202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6CA5-5B22-4B4D-AAA2-29C27FC6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C2E7-4CD1-4C6B-B68A-19D7BE74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F46D-924D-4BE4-BEB0-B64A6216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02F2-1C87-425B-9DE2-9FE2C40F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D319-715D-479D-8053-9AFABDED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A876-7611-4801-BA3C-0E2DB8F8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BC6B-75F4-4104-8372-73CB99C0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ED9A-2A6E-4192-98A8-7C9909CF6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3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(Lent &amp; General)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39: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362320"/>
            <a:ext cx="85341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what do I wait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my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in you alone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37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ppy shall they be w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ake your little on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dash the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gainst the rock!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144792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the rivers of Babyl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 we sat down and wep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we remembered Z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265104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 the willows the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ung up our lyr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6760" y="118728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re our captor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quire of us song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our tormento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irth, sayi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Sing us one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gs of Zion!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w shall we s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’s so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a foreign land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I forget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Jerusale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my right hand wither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760" y="155268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my tongue clea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roof of my mout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f I do not remember yo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f I do not set Jerusale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bove my highest joy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6760" y="1003320"/>
            <a:ext cx="86104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, remember again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Edomit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day of Jerusalem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w they sai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Raze it, raze it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own to its foundations!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6760" y="118728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daughter of Babyl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devastator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ppy shall they b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repay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what you ha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ne to u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31T17:00:40Z</dcterms:modified>
  <cp:revision>45</cp:revision>
  <dc:subject/>
  <dc:title>Psalm</dc:title>
</cp:coreProperties>
</file>