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AB2-3197-4515-BE99-C440CC5E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E6C-B1A2-4CC5-9C9B-B5E18075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8B9-18A3-4867-B3AB-6A69E992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D878-5B48-4227-A2E5-EF166731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A7D-B4E1-45B8-BE5D-73759059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B80-8C26-4390-A737-2C3485A3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555-FD43-40CE-95C0-7CEEE09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2D9-DE3B-4B4E-9322-90B268D6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A4B-9A3F-4690-88C9-49FDAA78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227-B29E-4D37-BC77-A6D71317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6266-38BF-4F55-8E87-6ACB04A1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10B-C4D7-431D-989D-14A5469F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7127-6F95-4B13-8495-2977B1598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90920"/>
            <a:ext cx="9144000" cy="208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hepherd 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indeed shall I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 1 © 1963 The Grail, by permission of G.I.A. Publication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Christ the King, General)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3: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362320"/>
            <a:ext cx="9144000" cy="34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od Shephe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hat we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it abundantly.</a:t>
            </a:r>
            <a:br>
              <a:rPr sz="50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2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91520" y="1905120"/>
            <a:ext cx="120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n. 10: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, Funerals, Memorial Servic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125360"/>
            <a:ext cx="88390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shephe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hall not w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makes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e down in green pastur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s me beside still wat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tores my lif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ads me in right path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sak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’s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though I wal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darkest valle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fear no evi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with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rod and your staff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comfort m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repare a table befor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presenc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enemi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noint my head with oi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cup overflow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rely goodness and merc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follow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days of my lif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shall dwe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house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long as I liv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7:18Z</dcterms:modified>
  <cp:revision>45</cp:revision>
  <dc:subject/>
  <dc:title>PowerPoint Presentation</dc:title>
</cp:coreProperties>
</file>