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6E6-A79B-4336-816A-37E7BB48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8CA-F396-422C-AF6F-9D2E8B1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365-8688-488A-A73B-6D10914D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326-E894-419D-8940-24BCDDE3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F56-F456-4650-A1A5-5CEAB858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9D8-6608-46F8-943F-44E1951E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2D5-A75F-45DA-B98A-EF61B4D5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B28-4159-46D0-8E85-DF1F50C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D49-EA83-4ADA-AF76-71F27C6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ABE-99E6-48F7-95AD-A8A53FD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EC5-70D1-4F1E-BC44-7EF2EBF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E18-02C4-4F77-B930-A97E036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951-5545-4D03-BB68-E003CE2C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Evening Prayer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41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s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s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sacrifi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09520"/>
            <a:ext cx="86104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bless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 servants of the Lor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tand by night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use of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oly pl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the Lor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 Lord who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 you from Zio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00Z</dcterms:modified>
  <cp:revision>40</cp:revision>
  <dc:subject/>
  <dc:title>Psalm</dc:title>
</cp:coreProperties>
</file>