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O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9144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14: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9072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srael went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Egyp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use of Jacob from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 of strange languag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udah bec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sanctu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rael God’s domin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a looked and fl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rdan turned ba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ountains skipp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ram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ills like lamb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ils you, O sea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you fle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Jordan, that you turn bac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mountains, that you ski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rams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hills, like lamb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emble, O earth, a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nce 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th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God of Jacob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turns the ro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a pool of wat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lint into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ring of wat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7:02Z</dcterms:modified>
  <cp:revision>269</cp:revision>
  <dc:subject/>
  <dc:title>PowerPoint Presentation</dc:title>
</cp:coreProperties>
</file>