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, be g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 for jo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 God’s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la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6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67:4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76212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be gracious to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less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ke your f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hine upon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7524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your way may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nown upon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saving pow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ong all n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45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peoples praise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all the peopl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yo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111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nations be gl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ing for jo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judge the peo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equi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uide the nat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earth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peoples praise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all the peopl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yo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arth has yield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 increas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, our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blesse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02572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has blessed u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all the ends of the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ear Go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49:50Z</dcterms:modified>
  <cp:revision>118</cp:revision>
  <dc:subject/>
  <dc:title>PowerPoint Presentation</dc:title>
</cp:coreProperties>
</file>