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s for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(Christmas, Epiphany,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96:13, 11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65888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ship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holy splendor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emble before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!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y among the natio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The Lord reig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has establish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ld, it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ver be move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will judge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ople with equity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heavens be gl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t the earth rejoi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sea roa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that fills i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field exul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everything in 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shall all the trees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od sing for j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111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the Lord,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es to judge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will judge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ld with righteous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peo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his truth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30824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sing 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new song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eart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 God’s na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claim God’s salv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day to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clare the Lord’s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ong the natio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’s marvelous wor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ong all the peopl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great is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reatly to be prais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be feared above all go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ll the gods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oples are idol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the Lord ma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eave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nor and majes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before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whose sanctuary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ngth and beauty.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cribe to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families of the peo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cribe 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lory and strengt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cribe to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lory of his name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ing an offer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come into the cour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3:59Z</dcterms:modified>
  <cp:revision>177</cp:revision>
  <dc:subject/>
  <dc:title>PowerPoint Presentation</dc:title>
</cp:coreProperties>
</file>