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86D0-4D01-44E0-B2BF-0DA5D6E26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3230-2169-42AE-8920-C323C67F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9E68-0E56-4012-B25C-C0C722B99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8DDB-2741-4994-B990-04EA4E9D9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E836-CF10-4B4C-BD84-E1820C19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715A-0E1F-462C-A7C4-C20F7361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7D72-AA09-4FEF-9C0E-B754D796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E962-8043-4578-96D0-0FF297CC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7885-A6AE-4C9F-9158-0A5E05EE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5C65-529A-41ED-A736-75FCEE72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6179-695F-43E2-978D-8B3A97F2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B0F8-FD3D-498B-89F8-DFEEEB91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5490-8E99-469A-BD21-B4002724E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32:1-5, 11-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Harrell B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209680"/>
            <a:ext cx="8534160" cy="35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ing of your prom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faithfulnes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generations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32:1-5, 11-1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760" y="220824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ir sons also for ev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ll sit up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throne.”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Lord ha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osen Zi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has desired 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God’s habitatio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This is my resting plac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ever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re I will dwel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I have desired 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5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will abundantly bl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s provision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will satisf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s poor with brea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6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s priests I will clo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salvatio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its faithful w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out for jo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7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 I will make a hor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sprout for Davi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have prepared a lamp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my anointe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s enemies I w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othe with sha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his crown w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ine upon him.”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67652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, in David’s fav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member all the hardship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endured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w he swore to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vowed to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ighty One of Jacob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6760" y="265104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I will not enter my hous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r get into my bed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19191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will not give sleep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my ey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r slumber to my eyelids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ntil I find a plac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dwelling place for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ighty One of Jacob.”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swore to Davi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sure oa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from 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not turn back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e of the son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your bod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 set on your thron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your sons keep my covena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my testimoni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ich I shall teach them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6:59:27Z</dcterms:modified>
  <cp:revision>37</cp:revision>
  <dc:subject/>
  <dc:title>Psalm</dc:title>
</cp:coreProperties>
</file>