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8F9-B000-4238-8A24-158CF780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59C2-FD2C-4741-97B3-655A5052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3C53-A015-48DE-812E-C37B118F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0C89-AAF5-4682-880B-DE71248D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336-9CE9-4ABB-8863-E9A899CD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3355-DE81-44EE-B2CD-F15ADDE1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295-35AC-4DA2-85BE-0C5E324C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18F-A1F3-473A-AD1C-14780B72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C182-15D7-47AC-89E6-8E9742A0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A95-1A14-47EC-A313-C0BF6C77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35F9-BEBD-46D7-8B15-405A1837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06D-56ED-4E17-B634-5234AC41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931B-8AFB-461D-B3B7-0F1CC6E99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Advent &amp; General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ames Montgo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43828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il to the Lord’s Anoi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Davi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er Son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or the sake of m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latives and frien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s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Peace be within you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220824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sake of the hou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 our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seek your good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22:6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7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286000"/>
            <a:ext cx="853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for the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rusale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your wa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29384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as glad when the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id to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Let us go to the hou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feet were stand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in your gat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Jerusalem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Jerusalem is built as a c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s bou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rmly together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which the tribes go 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ribes of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give thanks to the 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as decreed for Israe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nes for judgme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re set ther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thrones of the hou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David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Pray for the pe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Jerusalem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they prosp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love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eace be within your wall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ecuri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in your towers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8:06Z</dcterms:modified>
  <cp:revision>26</cp:revision>
  <dc:subject/>
  <dc:title>Psalm</dc:title>
</cp:coreProperties>
</file>