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01C4-9639-475C-9EF7-AF01BCDCF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BAE2-CBBC-48AF-9729-E5B61B0E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D1C7-D82F-41D8-ACC6-4ED696F6E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8B1D-50F2-4549-A572-D971B36F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A9B6-520D-407A-BE1F-2E5073C7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144A-543D-41B3-8F65-5F1F17EC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6855-23CB-4811-A034-D2DFE152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B6BD-FDBB-43CE-8EF1-A5E95D08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A193-2490-4104-9B29-BF45763F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DC90-C305-48EB-AB4A-D3C62D76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D08B-F605-4993-8EFA-25DA30BE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8BAA-F33C-4A70-B73A-99716900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2A6B-99ED-47AF-AF7E-480246C25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45:8-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Easter &amp; 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85: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51460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see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dness,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us your salvation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45:8-2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760" y="210168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open your hand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satisfy the desi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every living th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6760" y="210168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7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the Lord’s ways are just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Lord’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oings are ki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is nea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all who call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all who c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on the Lord in trut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9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fulfills the desi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all the faithful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hears their cr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saves the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0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who love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preserv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wick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destroy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66760" y="129384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1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mouth will spea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praise of the Lord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all flesh bl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’s holy na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ever and ever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92700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is gracio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ercifu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low to anger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bounding in steadfast lov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is good to al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compassion is ov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his cre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your works shall gi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nks to you, O Lord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your faithful on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ll bless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210168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shall speak of the glo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your kingdom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ell of your power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make known to all peop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mighty deeds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e glorious splendo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your kingdo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760" y="111132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kingdom is a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verlasting kingdom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your dominion endur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out 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enerations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uphol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who are falling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raises up 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are bowed dow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210168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eyes of all look to you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you give the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ir food in due seas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7:02:05Z</dcterms:modified>
  <cp:revision>61</cp:revision>
  <dc:subject/>
  <dc:title>Psalm</dc:title>
</cp:coreProperties>
</file>