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0A7B-51CE-4F98-AE65-0BEB68114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CD0E-507E-4FDD-80C5-45003FD3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98DE-914D-4241-8890-8CD6F3A10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F59F-2057-441C-B295-0D79E0377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8E33-9E1D-4FD0-9FD6-CCC795F7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6B2B-40E8-411F-8E86-91E1E9E8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30BF-30D6-4406-A891-6DAC384B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F1FF-2042-42B4-BB42-EA8BAA12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C197-4152-44A8-BF0F-B9FB22C9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CA60-A4C4-4894-A4F1-2AED0E43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C529-BD43-4A30-BA07-EFFCAE93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4C09-2165-4707-B574-CE47551B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6F86-1CBF-4492-9B5C-3448F72E4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liverance belo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or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is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live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3:8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a,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576360"/>
            <a:ext cx="883908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br>
              <a:rPr sz="3000"/>
            </a:b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how man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re my foes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Many are rising against m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many are saying of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“There is no hel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for him in God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561960"/>
            <a:ext cx="8839080" cy="55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you, O Lord, are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shield about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my glory, and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lifter of my he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cry aloud to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who answers  me fro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his holy hill.             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638280"/>
            <a:ext cx="8839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lie down and sleep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I wake again, for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sustains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am not afraid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ten thousand peopl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who have set themselv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against me on every si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820800"/>
            <a:ext cx="883908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ise, O Lor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liver me, O my Go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you strike all my enemi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on the cheek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you break the tee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of the wick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812960"/>
            <a:ext cx="8839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n-US" sz="5000" spc="-1" strike="noStrike" baseline="30000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liverance belo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to the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your blessing be up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your people!          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00:49Z</dcterms:modified>
  <cp:revision>20</cp:revision>
  <dc:subject/>
  <dc:title>PowerPoint Presentation</dc:title>
</cp:coreProperties>
</file>