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EA8-39BE-4E1B-A972-D5122D65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2C6-F62B-4734-B7D8-72D4C549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F51-5A56-4E9C-8791-403BF99B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75F-2C76-4BB4-93BE-C8F022DD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1D3-F721-4477-965E-769AE551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D19-DD21-47E6-8EF9-26FF23B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DC0-DC95-4A06-B545-749E99D5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115-7A24-4299-B845-EF6AE57B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9E9-5D9D-450C-90D1-4162595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591-81B6-4BF2-B0CC-B7D35A1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5CD-7C64-4DAE-9306-D247C24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8FA-0483-4D93-936E-36FA9372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2BC-4E89-47EF-A925-2A1EE9D8F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:12-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d the n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o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justic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a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ds Response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:12-1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(Ps. 72:1, 4, 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160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; O Go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ft up your h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get not the afflic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hy do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nounce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say in their he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“You will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ll to account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35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indeed see, you no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rouble and vex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ou may take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to your ha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38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unfortunate comm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mselves to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 have been the hel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orphan.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eak the arm of the wic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evildo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k out their wicke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ill you find n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73520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Rul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 ever and ev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tions shall per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rom God’s land.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you will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desire of the mee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will strengt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hear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incline your 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238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do justice to the orph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oppress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o that people on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ay strike terr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 more.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3:53Z</dcterms:modified>
  <cp:revision>28</cp:revision>
  <dc:subject/>
  <dc:title>PowerPoint Presentation</dc:title>
</cp:coreProperties>
</file>