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DBC-33FF-485F-ADD2-A7BE8CF3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743-6CEA-46EB-808C-505B210C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608-024E-42F2-A2C3-B50CE62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CC1-6020-4911-B791-19E3BCE5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DF3-E59A-4129-AAD4-58508D2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D84-8A00-4A86-AFE3-4EA071D9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1DB-5DF7-4126-B2C5-081D565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37C-5E34-428E-B5BC-662CCF8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DD9-728B-4B16-AB6E-18F1605A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D81-7774-419E-85DE-BF77300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D79-75D8-419F-A7B0-32E5112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9F1-274A-46CA-8C33-2D16E3C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FC33-3234-49E0-A7E4-01B4A54E4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Albert Tind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or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re ra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y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on our sid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Israel now say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t had not been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on our si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foes rose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u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y would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allowed us up a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ir anger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dled against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the flood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wept us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orrent woul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ne over u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 raging wa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uld have g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lessed b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not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prey to their tee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scaped as a bi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sn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fowler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nare is brok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 have escap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lp is in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25Z</dcterms:modified>
  <cp:revision>28</cp:revision>
  <dc:subject/>
  <dc:title>Psalm</dc:title>
</cp:coreProperties>
</file>