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13F-7987-419A-8608-B52CD202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875-41B8-4E5D-9956-F2034E5C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21C-EF53-46FA-AF0D-346A16F9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A3D-15D1-4F63-8A28-AC34A526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8A3-231A-4D00-AE26-149FF2E4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100-DC0A-41A4-8F11-84A87092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561-D5E7-4D1B-A185-F4A3E055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5B2-0A5B-4A49-A642-DEE98434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BB1-7CCD-4764-B17B-15D5B175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324-A432-4D81-9677-250E4D6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962-CF9D-4309-8AAF-BC84913D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DB7-B194-400A-9071-16054A70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8A1F-8A0D-430A-BD33-363A3CB03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Christmas, Epiphany, General)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harles Wes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igns abov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gi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beasts their fo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o the you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vens that c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735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takes no de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might of a hor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pleasure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trength of a runn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Lord takes pleas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faith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ose who hope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’s steadfast lov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 O Jerusalem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your God, O Z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trengthe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bars of your gat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s your childr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mids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peace in your bord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lls you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nest whe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ends f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mands to the ear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d runs swift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g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now like woo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catters hoarfrost like ashe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sts forth ice like morsel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an withstand its col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ends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d and melts the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the wind bl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waters fl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t is good to sing prais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our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ong of praise is fi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ecla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d to Jacob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atute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dinances to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760" y="1255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as not dealt th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ny other nat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do not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ordina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buil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Jerusale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athers the outcas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eal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rokenheart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inds up their woun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etermi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umber of the st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ive to all of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nam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is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bundant in pow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understan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yond meas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lifts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owntrodd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casts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groun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anksgiving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melody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yre to our G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vers the heave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clou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pares rain for the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grass gr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hi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2:41Z</dcterms:modified>
  <cp:revision>70</cp:revision>
  <dc:subject/>
  <dc:title>Psalm</dc:title>
</cp:coreProperties>
</file>