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joy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osts procla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xtol the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might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936120" y="1752480"/>
            <a:ext cx="193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Charles Wesl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Baptism of the Lord, Trinity &amp; 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sits enthron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ver the floo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sits enthron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Ruler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 the Lord gi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rength to his people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 the Lord bl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people with peace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990720"/>
            <a:ext cx="883908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cribe to the Lord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heavenly being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cribe to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lory and streng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cribe to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lory of his na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rship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holy splend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voice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upon the water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od of glory thunde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, upon many wat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voice of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powerfu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voice of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full of majesty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voice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reaks the cedar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breaks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edars of Leban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makes Leban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kip like a calf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irion like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ng wild ox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 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voice of the Lord flash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th flames of fi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voice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akes the wildernes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shakes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lderness of Kades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voice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s the oaks to whir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trips the forests bar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n his templ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cry, “Glory!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3T16:02:40Z</dcterms:modified>
  <cp:revision>55</cp:revision>
  <dc:subject/>
  <dc:title>PowerPoint Presentation</dc:title>
</cp:coreProperties>
</file>