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BA3-16D3-42A8-B4CC-28ECCAAA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263-F9EC-4057-B1B3-B70460E9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BD5-6952-4CC4-88C8-D1C79DC7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C1C-D553-4876-9095-FBC8272B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B72-D662-4730-ABEA-5D591A98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5ED-2F10-4870-A95E-9FD4A928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44F-AE6E-42E2-8162-F3B13515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D9E-DA6E-406C-A524-D89F9EA8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8E4-F782-44F7-9816-55C879C6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E91-2421-4E93-9422-1699EF6A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0EE-C2D9-45AA-BC75-112AE73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09E-0F5E-4FEF-A3E7-D5472BE0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D61A-391B-4113-8341-BC0AC4D9C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2:1-18, 25-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cred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ief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weigh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2:1-18, 25-3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ood Frida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non. Lat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rans. by Paul Gerha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Yet it was you who too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 from the womb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ept me safe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mother’s bre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you I was ca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my bi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ince my m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re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been my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85724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 not be far from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rouble is ne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re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ne to help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ny bulls encompass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ong bulls of Bash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rround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open w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mouths a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a rave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oaring l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066680"/>
            <a:ext cx="883908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poured out like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my bones a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of join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art is like wax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melted within my breas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mouth is dried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potshe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tongu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eaves to my jaw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lay me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ust of de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deed, dogs surround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company of evildo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circles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have pierc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ands and feet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an count all my bones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stare and glo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67472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divide my gar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th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or my raime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cast lots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nds of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emember and t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2:1-18, 25-3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2:2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you comes my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great congreg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vows I will p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ship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oor shall e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 satisfi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seek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praise the Lor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your hea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e for ev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ends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rememb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urn to the Lor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famil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worshi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dominion belo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rules over the 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who sleep in the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bow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44792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go down to the d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bow dow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shall live fo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576360"/>
            <a:ext cx="883908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sterity shall serve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ch generation shall te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proclaim his deliver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 people yet unbor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the Lord has done it.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93840"/>
            <a:ext cx="883908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God, m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have you forsaken 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y are you so f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helping me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wor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groan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y God, I cry by d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 do not answe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y n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find no 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t you, the praise of Israe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enthroned in holi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 our forebears trust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trusted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deliver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67472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 they crie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ere sav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 they trusted,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re not disappointed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I am a wor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t huma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corned by oth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espised by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see me mock at 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make mouths a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ag their hea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He committed his cau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Lord deliver him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Lord rescu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delights in him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6:23Z</dcterms:modified>
  <cp:revision>44</cp:revision>
  <dc:subject/>
  <dc:title>PowerPoint Presentation</dc:title>
</cp:coreProperties>
</file>