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spirit put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Ezek. 36: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ep calls to d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 the th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cataract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your wa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bill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gone ove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day the Lord comm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steadfast lo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t night God’s s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with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rayer to th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ay to God, my rock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Why hav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otten m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do I mou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e oppr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nemy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deadly w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adversaries taunt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ay to me continual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Where is your God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are you cast d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y so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y ar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squieted within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 in God whom ag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pra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lp and my Go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deer lo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flowing stream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longs my so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, 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thirsts for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living G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shall I come and beh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ace of G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91916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tears have been my f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y and n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le people say 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inual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Where is your God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things I reme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I pour out my sou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I went with the thro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d them in proc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ouse of G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lad shout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ngs of thanksgiv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ultitu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eping festi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are you cast d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y so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y ar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squieted within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 in God wh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 I shall praise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lp and my Go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is cast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i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 I remembe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and of Jord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Herm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ount Miz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1:55Z</dcterms:modified>
  <cp:revision>84</cp:revision>
  <dc:subject/>
  <dc:title>PowerPoint Presentation</dc:title>
</cp:coreProperties>
</file>