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2CC-4CEA-4CAB-AEAA-96E898F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34E-F7D8-49EF-8ECD-72D24B0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D3B-E9DD-4376-81D4-26F48656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383-DC63-4366-BFF3-C2B7D12F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CCD-DDFC-4317-BE9E-392CAD6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EF-6CF3-4930-9A74-9E21E03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E66-E4A2-4F4A-BD36-BF4078A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271-FF38-4B57-B2A6-9B31006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3FC-4B62-48CE-BE50-4EFF1694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7F9-8D7F-47F9-AB8E-1A3426C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94-40A6-4E69-89FC-C458B67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5D7-1BBA-4E63-BC1A-AA66102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7EA-4CCE-409D-A113-A3841415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9: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y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my though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take the w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well in the uttermo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s of the se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re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lea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hold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rkness cove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ght abou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night,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111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da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ight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was you who for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inward part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it me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mother’s wom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55268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aise you,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arful and wonderfu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are your wor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know me very well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rame was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rom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was be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de in secre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icately wrou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pths of the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638280"/>
            <a:ext cx="86104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yes behe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unformed substanc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book were wri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s that were for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y day, before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me into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profound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your thoughts, 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vast i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m of th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would count them, the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ore than the s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still with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have search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n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you would sl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at the bloodthirs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uld depart from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mali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y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ft themselve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you for ev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not hat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hate you, O Lor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I not loath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rise up against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te the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rfect hatr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ount them my enem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arch me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know my heart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y me and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hough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e if there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y wicked way in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ad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everlasting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when I sit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I rise up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iscern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arched out my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lying d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re acquai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my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before a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on my tongue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it al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ursu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ind and befo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ay your hand upon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ch knowledge is t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for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annot attain it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ther shall I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r spir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ither shall I fl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presen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ascend 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make my bed in She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30Z</dcterms:modified>
  <cp:revision>54</cp:revision>
  <dc:subject/>
  <dc:title>Psalm</dc:title>
</cp:coreProperties>
</file>