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F495-4925-4B4C-A2F3-1C81CF72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8A5-E07A-43C2-8DF4-AADB4D0C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6CE-4062-4221-9614-CF59707C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2E54-F43D-4024-B1F2-8063AAEA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DF6D-09F3-428E-B216-AF92F96E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CDB-E5B5-4D17-9B8B-EA1A083A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9CB-57D9-4DCD-9BA7-ECA75E03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98F5-644A-4026-A42E-CE045866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F80-FFBD-43A0-B404-5CAD67A5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2E26-00A2-40F5-B9DB-59688B08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4C6-18C2-45F8-A44C-3AE8B263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5451-7F84-464E-A921-69502E13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461B-EA24-414F-B39E-FCD1656BD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7:1-7, 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me, keep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apple of your ey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de me, hid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hadow of your w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7:1-7,1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73120" y="1219320"/>
            <a:ext cx="108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7: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&amp; 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25360"/>
            <a:ext cx="883908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a just cause, O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tend to my cry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ear to my pray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lips free of dec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10168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you let m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ndication co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your eyes see the righ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43000"/>
            <a:ext cx="8839080" cy="47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you try my he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you visit me by nigh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you test me, you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nd no wickedness in 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mouth does not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ansgr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cerning what others do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have avoided the way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viol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following your w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teps have held f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your path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feet have not slippe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73520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all upon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 will answer me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cline your ear to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my wor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ndrously show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adfast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savior of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eek refu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ir adversar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 your right ha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49220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s for me, I shall behol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face in righteousnes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I awake I sh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satisfied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holding your presence.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3T15:39:19Z</dcterms:modified>
  <cp:revision>37</cp:revision>
  <dc:subject/>
  <dc:title>PowerPoint Presentation</dc:title>
</cp:coreProperties>
</file>