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713-257E-4E47-B225-7EB0535E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C8C1-9B39-4C32-B0CD-EF8F759C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B57-C8C1-409A-AADD-0B031E84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00D-89F7-4450-90F4-655E36C9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A3EC-6D09-440D-B12E-98114066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C23-F2E5-40AB-9CC7-A9A5925B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D67-3AF1-43F3-9E6C-C8B4242D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171-8611-4142-9401-1C7A5B39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ECA-AB7C-4968-9BCC-4B6CDB9D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0C3-B7A4-4080-914D-2AEAC73B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B96-CD46-46BE-9FF7-03EEF89E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AF0-6BD4-49B2-AFCB-A1750022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42D4-1F30-4D8C-BE71-309825FA6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Thanksgiving, General)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26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8600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has d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things for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are filled with joy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(Advent &amp; Lent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30:5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36232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eping may tar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comes joy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Lord resto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ortunes of Z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were lik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drea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our mouth w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ed with laught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ur tongu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shouts of joy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they sai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ong the natio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The Lord has d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eat things for them.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has d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eat things for u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gla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Restore our fortunes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the watercour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egeb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w in te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ap with shouts of jo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go forth weep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aring the seed for sowing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come ho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shouts of jo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rrying their sheaves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8:47Z</dcterms:modified>
  <cp:revision>31</cp:revision>
  <dc:subject/>
  <dc:title>Psalm</dc:title>
</cp:coreProperties>
</file>