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exalted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heave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your glory o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be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Transfiguration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57: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our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nswered them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ere a forg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to 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an aveng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ir wrongdo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29384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ol the Lord our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orship at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mountai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the Lord our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holy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94284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reign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peoples trembl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sits enthron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cherubi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earth quak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great in Z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s exalted o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praise your gre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ondrous na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is the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ghty Ruler, lover of just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established equit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executed just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ighteousness in Jaco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62072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ol the Lord our Go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ship at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’s footstool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is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ses and Aaron w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God’s pries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muel also was amo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called 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’s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cried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nswered them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spoke to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pillar of clo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kept God’s testimoni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statu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gave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4:53Z</dcterms:modified>
  <cp:revision>186</cp:revision>
  <dc:subject/>
  <dc:title>PowerPoint Presentation</dc:title>
</cp:coreProperties>
</file>