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F97-BC15-4DE7-8ABB-0765B53A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EF5-F49A-475F-B30E-FF91A3FF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A98-73F3-4946-B49D-B2640BEC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3FA-432B-4F09-B483-DF9EE995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9C0-39D6-44A6-B1B0-167B6F70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649-BA13-4CF7-AF44-9DB2F5A4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39A-67D9-4D3D-AFB9-ADA9755A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895-109D-4406-806E-D777E99D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500-7B78-4D55-A9BD-F20C50A0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BD3-8A20-426C-8F33-E7B6AC3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163-67EA-4E40-B928-72CAF93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951-69D4-4095-A958-8CE7D2A9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8EB2-EF17-4DBE-9BD7-6CA8D78AC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 T Kimbrough,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853416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us by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ov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hold, how good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ant it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live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un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82080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like the precious oi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hea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nning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bea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beard of Aar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nning down on the coll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his rob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like the de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rm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falls o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untains of Z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08240"/>
            <a:ext cx="86104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re the Lord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manded the bless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e for evermor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9:44Z</dcterms:modified>
  <cp:revision>38</cp:revision>
  <dc:subject/>
  <dc:title>Psalm</dc:title>
</cp:coreProperties>
</file>