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04:1-13, 24-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438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rules 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04:1-13, 24-3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1440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(Pentecost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oachim Neander</a:t>
            </a:r>
            <a:br>
              <a:rPr sz="2000"/>
            </a:b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Catherine Winkworth, a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8108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rose up to the mounta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an down to the valley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place which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ppointed for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set a bound whi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should not pa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 that they might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gain cover the earth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make springs gush fo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valley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flow between the hill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give drink to eve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ast of the fiel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ild asses quen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thir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ove the springs the bir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air have their nest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sing among the branch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your lofty plac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water the mounta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he fruit of your wor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earth is satisfie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how manifo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your work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wisdom you ha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de them all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earth is fu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creatu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nder is the sea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eat and wid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reeping thi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numerable are ther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ving things bo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mall and gr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go the ship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eviathan whom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med to play in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all look to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give them their fo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due seas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490760"/>
            <a:ext cx="883908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 the Lord, O my soul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 my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very grea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you give to the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gather i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you open your han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are filled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od thing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you hide your fa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dismaye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you take a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breath, they di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return to their du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you send forth your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create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 renew the fa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gr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the glory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dure for e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the Lord rejoi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his work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looks on the ea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t trembl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touches the mountai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y smok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sing to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long as I li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sing praises to m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while I have be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my medit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pleasing to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whom I rejo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685800"/>
            <a:ext cx="883908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sinners be consum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ear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let the wicke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no mor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 the Lord, O my soul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22845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clothed with hon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ajesty,</a:t>
            </a:r>
            <a:br>
              <a:rPr sz="4800"/>
            </a:b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cover yourself with l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ith a garmen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stretched ou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eavens like a tent,</a:t>
            </a:r>
            <a:br>
              <a:rPr sz="4800"/>
            </a:b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ave laid the beam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chamb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water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make the clou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chario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ride on the w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win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make the win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messenge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re and fl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minist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et the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its foundatio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at it shou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ver be shak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covered it with the dee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with a garmen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aters stood ab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mounta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 your rebuke they fle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t the sound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thund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took to fl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5:42Z</dcterms:modified>
  <cp:revision>232</cp:revision>
  <dc:subject/>
  <dc:title>PowerPoint Presentation</dc:title>
</cp:coreProperties>
</file>