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0:1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withhold your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steadfas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0:1-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40: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rnt offering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 offe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not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aid, “Lo, I co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roll of the boo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written of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elight to do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my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law is with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told the glad ne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delive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great congreg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, I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rained my lip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you know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1872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not hid your sa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within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spoke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salv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not concea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aithful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great congreg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do not with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mercy from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aithful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 preserve m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7472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aited patiently for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nclined to 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d my c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rew me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desolate p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the miry bo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t my feet upon a roc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my steps secu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put a new s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mo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ong of praise to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y will see and be in aw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ut their tru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Lor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 mak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their tr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o not turn to the prou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go astr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fter false god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multipl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wondrous dee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ward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ne can compare with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I to procla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ll of th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ould be more th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numb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crifice and offer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o not desi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you have give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pen 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1:32Z</dcterms:modified>
  <cp:revision>80</cp:revision>
  <dc:subject/>
  <dc:title>PowerPoint Presentation</dc:title>
</cp:coreProperties>
</file>