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3D2-8856-4FB7-9FC1-DB35EB75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413-1542-46B0-A9CF-AF7A428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3A3-B937-41E8-BA53-D24A30D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F4F-8021-49A0-85D2-293AED83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A96-DE4F-4C3F-88C8-FD3FBCC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655-CBFF-4D04-A056-74E4FB4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5B0-20B4-4C43-B8C7-D9DFF9B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4F8-91C3-4FB0-B041-7165CB6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484-607B-4E21-888D-A15E4D21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CE9-ED20-413D-B909-28E7C63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726-50E4-48CC-A7BF-4680E08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6AF-8134-4E8F-A54A-46860EBD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D0C-4919-4150-9C05-FC3C8CB6E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Lent &amp; General)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. 39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do I wai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you alon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3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shall they b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your little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as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ainst the rock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4479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ivers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we sat down and wep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remembered Z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willows t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ng up our ly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re our capt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quire of us so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torment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rth, say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Sing us on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gs of Zion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shall we 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s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foreign l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forget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Jerusal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y right hand wi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my tongue cle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roof of my mou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remember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do not set Jerusal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ve my highest jo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remember again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domi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ay of Jerusalem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hey sai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Raze it, raze i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to its foundation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aughter of Babyl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vastator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shall the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pay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w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ne to 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0:40Z</dcterms:modified>
  <cp:revision>45</cp:revision>
  <dc:subject/>
  <dc:title>Psalm</dc:title>
</cp:coreProperties>
</file>