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AA0-C696-4853-871C-8B1532C9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CB3-E80A-4B3C-8BBE-72C49B4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D24-A1B6-4317-83F8-EBD0FD68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F7F-C19F-4161-8045-D864C901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C07-7DD8-48BB-89D6-AE0799C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7DF-F00A-4948-A69B-E9E7DA85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C94-3655-4E44-B69F-4BCD125E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6DA-473B-4BC2-8CA8-0E98B7B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300-D7A9-4A3F-82CB-8A843CFD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BAF-C0BD-4B28-9C8F-61B14D9D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E04-FADB-4E23-B762-4E5EAE53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CAF-93AB-4E3F-AB7D-CED1A4D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45D-93F8-4534-B452-649FCEFBD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38:1, 2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362320"/>
            <a:ext cx="8534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your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eadfast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fill your purpose for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tch out your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the wr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enem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livers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fulfill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pose for m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ay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endure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forsake the wo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hand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16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give you thanks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whole hear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go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ing your prais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ow down towa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holy tem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thanks to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me for your stead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and faithfulnes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have exal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everyth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day I call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nswered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ngthened my life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ruler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praise you, O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y have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s of your mouth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y shall sing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ys of the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reat is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is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regards the lowly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knows the haugh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far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I walk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dst of troub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serve my lif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10Z</dcterms:modified>
  <cp:revision>50</cp:revision>
  <dc:subject/>
  <dc:title>Psalm</dc:title>
</cp:coreProperties>
</file>