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6FD-6EC4-4A1C-B05C-01F7B725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0C2-C093-4337-8473-7036C1EB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1F3-82AD-469A-992E-F82E3142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388-2B30-4198-93A5-63DE4CB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0E-C061-4256-B913-63F8937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A17-8F1A-407E-8A8F-F250315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E9F-AC8A-4555-B13F-F55F645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767-57AE-4817-ACA9-20B00640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B11-B8E0-40D8-83E0-F38993C2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211-BDE5-4B78-BB45-0CCD6C03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449-F8AB-4118-838D-19601EA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348-BBEA-4F8E-A00D-C3F51BC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2BB-2986-4238-8F3C-8E57A929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3:1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xek. 37: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orning let me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n you I put my tru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the way I should g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o you I lift up my sou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enem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fled to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ve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me to do your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my Go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good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 level path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46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m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of my lif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my prayer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supplicat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not into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serva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no on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nemies have pursued 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crushed my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grou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made me s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ose long d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m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nts within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withi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appall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emember the days of 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editate on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 have don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use on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nds have wrou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8288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tretch ou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thirsts for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parched 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380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haste to answer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pirit fai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e not your face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I b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down to the p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45Z</dcterms:modified>
  <cp:revision>66</cp:revision>
  <dc:subject/>
  <dc:title>Psalm</dc:title>
</cp:coreProperties>
</file>