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C17-9044-4F03-95A2-A45810F2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3B0-9A10-4C86-9235-3EB2FD8A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B35-9226-4FB6-9FF9-7C940370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245-56CD-4FE8-842C-693BA2A7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707-0F5A-45CB-948C-B71EF3C4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0CB-2A19-434D-AAEC-020A9BEE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46C-3ACE-4C9B-A767-B49BC684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888-063E-46AB-B04C-D16B5336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164-4777-4258-BE77-9E602D0F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A8B-B129-4AA3-AF82-DCD19582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8D1-ED67-472D-B2ED-F3D9EC9F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4AB-9BBB-4118-97AC-9AB46354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7234-D8BA-4E7A-B76B-4F56ED61E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a b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Gil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nded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frican American Spiri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576360"/>
            <a:ext cx="883908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swer me when I c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 God of my righ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given me ro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en I was in distres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Be gracious to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hear my pray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long, O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hall my honor suffer sha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long will you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vain word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seek after li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93840"/>
            <a:ext cx="883908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know that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has set apart the righte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s God’s ow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he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en I call.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angry, but do not si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mune with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wn hearts in your bed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be sil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fer right sacrific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put your tru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in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are many who s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“O that we m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ee some goo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ft up the light of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countenance upon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 Lord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put m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joy in my he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an they have wh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ir grain and wine ab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812960"/>
            <a:ext cx="88390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ace I will b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lie down and sleep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for you alon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make me lie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in safety.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1:16Z</dcterms:modified>
  <cp:revision>21</cp:revision>
  <dc:subject/>
  <dc:title>PowerPoint Presentation</dc:title>
</cp:coreProperties>
</file>