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34B-0E36-492A-89FD-3E8C1DEC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0D8-172A-4AA4-BF6F-71166A3A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751-1EBA-4684-99A6-F06AAFFA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F6F-EE4D-4CF6-B695-B5FBA146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E96-6658-4E68-84AE-DF5D6EA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B56-7A75-45D3-A7D5-0727E61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723-E2D8-4CE5-B388-84BD76D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A80-22E2-4775-AFF4-6856903E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3B5-9132-4F1A-9E4F-7D016E6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9F1-31DD-4BE9-9ECA-8CD1F2C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B88-DB10-4373-933F-3F1A313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4A9-B66F-4D86-A88A-B7E51946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B204-B8BA-43A2-8D6F-61572AC6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4920" y="21337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ders rej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become the cornersto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the Lord has mad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, we 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o the horns of the alt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ive thanks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go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2590920"/>
            <a:ext cx="853416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 let u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and be gla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75 G.I.A.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27432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715000" y="1981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76320"/>
            <a:ext cx="91440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my strength and m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ower; the Lord has beco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5228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victory in the tents of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eous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66760" y="2649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480" y="53352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right hand of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4920" y="3412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sorely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76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gate of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the righteous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enter through it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30492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 thank you that you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ave answered 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have become 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pow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al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tone whic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ilders rejected h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s become the  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rnerstone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990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This is the Lord’s doing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t is marvelous in our ey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4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the day whi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has mad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us rejoi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glad in it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Save us, we beseech you, O Lord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we beseech you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success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480" y="685800"/>
            <a:ext cx="88772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lessed is the one who come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685800"/>
            <a:ext cx="887724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bless you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se of the Lord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66760" y="137016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is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o has given us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ad the festal process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branch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 to the horns of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tar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4480" y="228600"/>
            <a:ext cx="88772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and I will give thanks to you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u are my Go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 will extol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 are joyous so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vict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tents of the righteou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844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00"/>
                </a:solidFill>
                <a:latin typeface="Times New Roman"/>
              </a:rPr>
              <a:t>Peopl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give thanks to the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ho is goo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’s steadfast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8:14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Passion/Palm Sunday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8: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one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s in the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8:14-2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valiant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exalte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 han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valiantly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 shall not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shall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count the dee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chaste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sore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has not give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to dea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pen to me the g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 may en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thanks to 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g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through i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dan mccay</cp:lastModifiedBy>
  <dcterms:modified xsi:type="dcterms:W3CDTF">2012-03-31T19:30:10Z</dcterms:modified>
  <cp:revision>10</cp:revision>
  <dc:subject/>
  <dc:title>Psalm</dc:title>
</cp:coreProperties>
</file>