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06:1-12, 19-23, 47-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of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we 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our hym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rateful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06:1-12, 19-23, 47-4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Folliot S. Pier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saved them for the sak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his holy na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make known the might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ower of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rebuked the Red Sea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t became dr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ed them through th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ep as through a dese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 God saved them fr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and of the fo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delivered them fr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and of the enem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waters cover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ir adversarie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 one of them was lef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220824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n they believed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’s word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sang God’s prais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made a calf in Hore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orshiped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lten ima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exchanged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lory of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image of an ox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eats gra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forgot God, their Savio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had done gre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ngs in Egyp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ndrous works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and of Ha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errible things b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Red Se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fore the Lord intend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destroy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d not Mos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is chosen on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ood in the brea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urn away God’s wr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destroying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758880"/>
            <a:ext cx="883908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give thanks to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is goo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se steadfast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dures for eve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ave us, O Lord our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gather us fr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ong the natio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we may give thank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your holy na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glory in your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ed be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od of Israe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everlast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everlasting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220824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let the people sa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Amen!”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the Lord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can utter the migh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ings of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r show fo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God’s prais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are they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bserve justi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do righteous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t all time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member me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you show fav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your peopl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lp me wh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deliver th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11132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 may see the prosperit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your chosen on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 may rejoice in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ladness of your nat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 may glo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your heritage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oth we and our forebea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sinne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have committed iniqui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have done wicked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forebears, when the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re in Egyp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id not consider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nderful work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did not rememb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abundance of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eadfast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r rebelled against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st High at the Red Se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56:04Z</dcterms:modified>
  <cp:revision>244</cp:revision>
  <dc:subject/>
  <dc:title>PowerPoint Presentation</dc:title>
</cp:coreProperties>
</file>