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B8F-1006-4EFC-9B16-21C721BE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031-8E17-41E3-A138-480D363A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945-810A-4AC1-9791-10F4A018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C2F-08B6-4DE5-8346-294B2406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746-2AD8-4B84-BD96-8D6F5EA4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193-07EA-4A63-A3FD-CBEA01E5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B6A-BD5A-4604-ABE8-FB04C1EF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808-5977-4BBF-BDD1-5C88C3A5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246-5908-4C61-BFBC-885015DF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2E8-F063-43E2-A7B0-E7B44C9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D16-3493-471E-AB18-8A8A52DD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808-BD92-48CD-9483-AB2B1049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CA8-352E-4F52-9826-F1F042E67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ve the Lord with fear;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humble before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Transfiguration and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:11, 1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Now therefore, O king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 wise; be warne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rulers of the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rve the Lord wit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ear and trembling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umble yourselves bef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st God be angr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you perish in the wa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or God’s wrath is quickl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kindl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5891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all who tak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refuge in the Lor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4382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know that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Redeemer li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ob 19:25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93840"/>
            <a:ext cx="88390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5600"/>
            </a:b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do the nations conspi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people plot in vain?</a:t>
            </a:r>
            <a:br>
              <a:rPr sz="4800"/>
            </a:b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kings of the earth rise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rulers take counsel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gainst God and God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ointed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“Let us burst their bon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and cast their cord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from u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One who sits in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avens laugh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holds them in derision.</a:t>
            </a:r>
            <a:br>
              <a:rPr sz="4800"/>
            </a:b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en God will speak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m in ang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terrify them in fur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5891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“I have set my king o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Zion, my holy hill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 will tell of the decre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Lord who said to me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“You are my son, to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 have begotte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sk of me, and I will mak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nations your herita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ends of the eart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your posses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You shall break them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 rod of iron, and das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m in pieces like 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potter’s vessel.”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0:01Z</dcterms:modified>
  <cp:revision>21</cp:revision>
  <dc:subject/>
  <dc:title>PowerPoint Presentation</dc:title>
</cp:coreProperties>
</file>