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24F-D50C-410C-A0C2-B482404A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930-1805-421F-AF8C-11B5C59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6DC-989C-42E5-A3F4-BA0AFB6F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E0D-F304-4887-B65B-B87BCAF2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051-09F7-42B5-8C47-8754B58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335-78C9-4063-8150-2E0918B5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B21-8E7B-4CC1-AABC-7B20C74C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73D-E202-42DD-86DB-4225139F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A8B-ABE0-4E5E-8686-1545A07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001-BF27-4496-A85B-0087E6E8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5F8-A34F-467B-BA86-0D68F0B1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0B3-A3C3-4281-A416-3D8ED6CB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1917-9F9F-4105-B96F-7D2F5FEB1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who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uge in you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ever sing for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5: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all who take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you rejo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them ever sing for jo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defend them, that those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ove your name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exult i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12960"/>
            <a:ext cx="883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bless the righteo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 cover them with fav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s with a shield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 to my words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give heed to my groan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rken to the sou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my c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y Ruler and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to you I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in the morn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hear my vo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morning I prep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 sacrifice for you, and wat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not a God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elights in wicked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evil may not dwell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astful may not st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fore your ey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hate all evildo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You destroy thos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speak li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Lord abhor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loodthirsty and deceit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, through the abund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ill enter your ho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ward your holy tem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 will worship you in awe.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, O Lord,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cause of my enemi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your way stra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fore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re is no tr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ir mou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heart is destru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throat is an open gra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y flatter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ir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ar their guil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them fall by thei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wn counsel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thei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any transgress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st them ou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they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1:42Z</dcterms:modified>
  <cp:revision>22</cp:revision>
  <dc:subject/>
  <dc:title>PowerPoint Presentation</dc:title>
</cp:coreProperties>
</file>