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6B3-2318-4E64-91CA-CEA72EA4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0C0-79A5-456C-987B-9868FCFA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B61-FB02-45AB-9513-44720781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A09-D3E1-4BAF-B2BB-6927DDEE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CC2-EF05-4E9D-946D-9DCBB469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28B-C227-4209-8765-E62E4C34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79E-C6CE-46FA-9B17-73FC1B9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B09-17A5-45A4-9AC1-3E2A2669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DB6-614A-439C-A99D-7AF44181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A35-6486-4B2F-8691-3D21ADF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BFC-1B1D-45DA-B626-F2C1FD8C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FD2-72E3-4944-B3C2-C2CE4BC6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50E1-CF6C-4222-8E5E-0C081354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146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on thy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Katharina von Schleg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Jane Borthwi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6212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, O Lor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ill you forget me for ev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will you h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your face from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 must I bear p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my so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have sorrow in m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ll the 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shall my ene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 exalted over me?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ider and answe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Lord my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ghten my ey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lest I sleep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leep of dea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37016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t my enemy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“I have prevailed over him”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t my foes rejo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cause I am shak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trusted i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teadfast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shall rejo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y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03976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ing to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has deal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ountifully with me.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4:28Z</dcterms:modified>
  <cp:revision>30</cp:revision>
  <dc:subject/>
  <dc:title>PowerPoint Presentation</dc:title>
</cp:coreProperties>
</file>