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is thirs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rsting for you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6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63:1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shall be given ov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power of the sw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shall be pre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jackal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990720"/>
            <a:ext cx="883944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the king sh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joice in Go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who swear in God’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ame shall glor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e mouths of li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ll be stoppe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57636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 you are m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seek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oul thirsts for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flesh faints for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in a dry and weary l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no water i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I have looked upon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sanctua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holding your pow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l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your steadfast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better than lif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lips will praise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I will bless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long as I liv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life up my han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call on your name.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oul is feas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ith marrow and fa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mouth praises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joyful lip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I think of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my b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editate on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watches of the nigh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74448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have been my help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n the shad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w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sing for jo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oul clings to you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right h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holds m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those who see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destroy my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ll go down to the depth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earth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49:11Z</dcterms:modified>
  <cp:revision>109</cp:revision>
  <dc:subject/>
  <dc:title>PowerPoint Presentation</dc:title>
</cp:coreProperties>
</file>