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5F1-3E43-4129-AEEE-DFE11722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8A6-A129-4E43-B931-31D7700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2F2-583C-4DEA-B88E-31A237C7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9CC-E870-4261-8030-B181D5AC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014-A39E-4CC8-AB16-137B51D1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CC6-1D43-4099-88E2-D6B906D2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AB2-9C97-4843-A665-B09C2891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4B4-C8F9-4259-88BE-C7F39FCB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994-AC63-484B-9607-29AD574A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75B-47DE-4A73-845D-2AF2D86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D7C-114C-4E4B-AEE7-3294B693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754-8A8F-4EED-8058-67AD71D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DE01-F2A0-449B-9AA2-692AE2F0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0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is l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life up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an Luff  (Ezek. 37:1-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58880"/>
            <a:ext cx="883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ols say in thei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There is no Go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corru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do abominable deed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none that doe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oks down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ven on all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 if there are 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are w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afte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all gone astr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all alike pervers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none that does g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, not one.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they no knowled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vildo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eat up my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y eat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not call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they shall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reat terr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 is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ener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righteo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ould conf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plans of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ut the Lord is their refu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7603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at the deliverance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would c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Zion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s their fortun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cob shall rejoi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shall be glad!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4:59Z</dcterms:modified>
  <cp:revision>32</cp:revision>
  <dc:subject/>
  <dc:title>PowerPoint Presentation</dc:title>
</cp:coreProperties>
</file>