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2E3-5B5A-4032-96B7-CBA65F7D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B9B-5668-4867-8A9B-374E92E3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0BC-6C08-4526-86EE-E845CD5E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71F-1A7E-4083-AD1A-7430FF27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DF3-074A-4250-8FE4-E945173E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519-9A5C-48AF-A9E2-56E3B2F8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A29-2BF8-4748-BBD8-A3FCB850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227-270B-460B-BDFC-D146D5BB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9E8-6E41-4CCD-AD3C-324D537B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BE5-F15B-4E5D-97B4-1B071C8E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E41-5C9A-45C0-9CDE-A6FF505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02E-A81E-4CD9-B95E-DF45189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C295-886C-4FCB-A0F2-0563865FC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lone is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us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2240" y="11430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 T Kimbrough, J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223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who shall abi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tent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dwell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holy hil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ne who wal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amelessly, and do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r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peaks tru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oes not sland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tong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es no evi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 fri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akes up a reproa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a neighbo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ose eyes a reproa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despis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who honor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fear the Lord;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oes not put 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ney at intere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es not take a bri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the innoc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ne who does these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never be mov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5:13Z</dcterms:modified>
  <cp:revision>35</cp:revision>
  <dc:subject/>
  <dc:title>PowerPoint Presentation</dc:title>
</cp:coreProperties>
</file>