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at do I wait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in you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28600" y="9223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9: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m mut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do not open my mouth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t is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ve done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move your strok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am spent by the blo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han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you chasten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rebukes for s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consume like a mo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dear to them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rely every human be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an empty breat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my prayer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ive ear to my cr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d not your pea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t my tear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 am your passing gue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ojourn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all my forebea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ok away from me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 may know glad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I depa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m no more!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674720"/>
            <a:ext cx="883908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aid, “I will guard my way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I may not s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my tongu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keep a muzzl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my mo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long as the wick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in my presenc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as mute and sile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eld my peace to no avai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distress grew wor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heart bec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t within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I mu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ire burn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I spok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my tongu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Lord, let me know my e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hat is the measu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y day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me know how fleet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ife i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made my d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few handbreadth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y lifetime is 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hing in your sigh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ly every human be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an empty breat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113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ly everyone go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out as a shadow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ly they are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urmoil for noth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heap up, and do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now who will gather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And now,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hat do I wait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hope is in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liver me from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transgression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e me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corn of the fool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11:22Z</dcterms:modified>
  <cp:revision>78</cp:revision>
  <dc:subject/>
  <dc:title>PowerPoint Presentation</dc:title>
</cp:coreProperties>
</file>