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A59-D9C1-4B6E-BD6D-7D355E5A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2FE-E2A4-47CF-86BD-72E30D18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1AE-E491-4772-8C6D-62C4B27F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272-A9F7-4F65-BB52-C997C4F1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794-D0B5-44FB-BF3A-9E901A23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006-2CE4-4162-A1E2-C1A133D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CF4-E8D6-4948-AC2B-C014FDD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8B2-B92C-47EB-AC48-432659AD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020-2324-4839-8124-BBC7003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477-6979-44DE-A502-EEBC73E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4FC-DDFA-4F84-859B-B0A7E271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1D0-2822-47EB-8A15-19094F1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C319-65EC-40EE-BB4F-BD2D9DBC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6:5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e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n you I take refu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840" y="152388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always befo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joi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6:5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94440" y="121932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6:8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9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chosen por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old my l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nes have fallen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leasant plac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a glorious herit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less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me counse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a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nstructs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set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ways before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right ha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be moved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heart is gl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soul rejoic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body also dwells sec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do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p to Sheo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let your godly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p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082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me the path of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fullnes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 hand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ures for evermor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4:50Z</dcterms:modified>
  <cp:revision>35</cp:revision>
  <dc:subject/>
  <dc:title>PowerPoint Presentation</dc:title>
</cp:coreProperties>
</file>