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6E66-6977-4621-BD82-28833B43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45C5-6CE0-4722-B974-8824E646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1E7A-A9B4-4BAA-AD42-FE01C570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BBDC-AF1B-44D1-9114-2C1322C0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D968-B7AE-4790-B984-CFCA48F5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A031-240D-4ED8-8000-9708D0B5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8EA6-83D3-4762-B347-8742E52B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F64-84CF-4D95-AF31-93BD81F3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A57E-1C31-402A-BEC4-3F55AD3E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0576-6760-4364-B0DB-E13C0F98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E6C-5DD1-4E57-819A-28DAE430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C58-E2F2-4A38-B864-D56701AD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131A-17F4-4A8A-8893-43C6F9B0E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Morning Prayer, 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Francis of Assisi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             trans. by William H. Dr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438280"/>
            <a:ext cx="8534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creator bles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4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untains and all hill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uit trees and all cedar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asts and all cattl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reeping thing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lying bird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ings of the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ll peopl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inces and all rul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earth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ng m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aidens toge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ld men and childre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m praise the 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se name alone is exalt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se glory is ab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arth and heav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6760" y="744480"/>
            <a:ext cx="8610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has raised up a hor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his peopl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for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faithful on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people of Israel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near their Go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60948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heave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height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his angel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his host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n and mo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shining star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ghest heave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l wat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bove the heavens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m praise the 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command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y were create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established th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ever and ev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ixed their boun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ich cannot be pass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ea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a monst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ll deep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re and hai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now and smok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ormy winds fulfill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’s command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3:18Z</dcterms:modified>
  <cp:revision>74</cp:revision>
  <dc:subject/>
  <dc:title>Psalm</dc:title>
</cp:coreProperties>
</file>