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977-D28D-49AD-A7F9-D87EF22C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339-6907-4024-949A-922F1EC3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281-2C07-4CB0-94BE-C878819B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4BA-3B74-4176-AAE6-24521F6C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D93-0224-4E03-BBE1-8723D2C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2D8-ED0C-41A0-BE83-56E1807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3B2-2653-493F-A424-EC80BC92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029-B193-41B7-9F67-5BFC2682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B6D-EA85-400E-A876-EC9A721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89D-D5E4-47A4-8A81-45325CD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DBE-1607-46BC-840E-E6AC320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3E0-6658-4C78-B034-5E4345A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0B4E-F055-4EC7-886A-AD950370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5:8-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85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ness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your salva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5:8-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open your han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atisfy the desi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every living 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Lord’s ways are ju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Lor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ings are k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n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cal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all who c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Lord in tru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fulfills the desi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the faithfu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ars their c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aves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lov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preser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stro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outh will sp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aise of the Lor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flesh b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holy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9270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ra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ercif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ow to anger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unding in steadfast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good to a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compassion is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cre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r works shall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to you, O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faithful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less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hall speak of the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kingdo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ell of your pow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ake known to all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mighty deed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glorious splen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kingd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11132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kingdom is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lasting kingdo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dominion endu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out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neration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uphol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are falling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aises up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bowed dow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yes of all look to y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give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food in due sea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05Z</dcterms:modified>
  <cp:revision>61</cp:revision>
  <dc:subject/>
  <dc:title>Psalm</dc:title>
</cp:coreProperties>
</file>