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7:1-9, 33-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hanks 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teadfas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7:1-9, 33-4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07: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ord satisf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are thirs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ills the hung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od thing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turns riv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a dese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rings of wa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hirsty grou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fruitful l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a salty wast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the wicke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its inhabit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turns a dese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pools of wa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arched l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springs of wa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lets the hung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well the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y establish a c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ich to l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sow fiel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lant vineyar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et a fruitful yie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multiply greatly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blessing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oes not l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cattle decreas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y are diminish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ought l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oppress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uble, and sorrow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pours contemp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princ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kes them wa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rackless wast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Lord raises up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edy out of afflic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kes their famil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flock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0824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ive thanks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go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steadfast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upright see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re gl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wicked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ops its m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ever is w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heed to these thing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sider the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redeemed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say s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the Lord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ed from trou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athered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land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e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the w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n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the s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wandered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esert wast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ing no way to a c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ich to dwel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ngry and thirs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soul fain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in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in their troub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cried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elivered them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distr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d them by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aight 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ll they reached a c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ich to dwe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thank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is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is wonderful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umanki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6:19Z</dcterms:modified>
  <cp:revision>253</cp:revision>
  <dc:subject/>
  <dc:title>PowerPoint Presentation</dc:title>
</cp:coreProperties>
</file>