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64A-936B-46C2-B222-C76CF60B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0F7-01D4-4CF5-BB8F-E019D261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880-F646-44EC-940A-CF94941A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1E3-B3CF-44B3-A3F3-744B24EF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0BA-9CC2-451B-A592-0A8F665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5B9-9EEF-4175-9C03-E33C814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A6B-636F-41CB-9180-CAE0347D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405-0269-4B74-9760-F9A691A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341-C0C6-4EDB-A343-4D8BF04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BC3-EC08-4F11-9968-7F75B7C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B68-13FE-4162-9440-5EE0CC16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A99-DFC8-421A-A80B-2CB2BA8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D533-D32D-405C-AC03-D01A69CD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71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w of God is j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ing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8200" y="137160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9: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ecept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are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ing th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ommandment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is p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lightening the ey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ear of the Lord is cle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ing for ev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rdinance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are tru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 al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0332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to be desi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y than g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much fine go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eeter also than hon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ripping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neycomb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over, by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your servant warn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keep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great rewa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765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ut who can under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’s own error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ear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den fa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so keep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insole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n no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minion ov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hall be blamel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nocent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eat transgre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Let the words of my mo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medi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cceptable in your s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y r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redeem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ment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rn wis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0320" y="121932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Bar. 3: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eavens are tel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lory of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irmament proclai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handi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y to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urs forth spee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ight to n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s knowle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spee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re there word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voice is not hea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their voice goes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all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ir word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nd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m God has set a t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sun, 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mes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bridegro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ving his chamb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uns its course with jo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strong 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rising is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 of the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circu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end of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re is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 from its hea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aw of the Lord is perfec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viving the sou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estimon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is s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wise the simpl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42:21Z</dcterms:modified>
  <cp:revision>39</cp:revision>
  <dc:subject/>
  <dc:title>PowerPoint Presentation</dc:title>
</cp:coreProperties>
</file>