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commands 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coven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nds redemp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mption to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Christmas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11: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are establish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ever and ev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be performed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ithful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uprightn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sent redemp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his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as command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s covenant for ever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and wondr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God’s na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74448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fear of the Lord i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ginning of wisdom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ose who practice 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a goo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derstanding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praise 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dures for ever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2880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are the wor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aboun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nds of th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Harrell Beck (Ps. 111:2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393840"/>
            <a:ext cx="883908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give thanks to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my whole hear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company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upright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congreg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eat are the wor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udied by all who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leasure in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honor and majes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the works 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se righteous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dures for ev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s caused his wonderf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ks to be remember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graci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ercif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provides fo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faithfu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s ever mindfu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his covenant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has shown his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ower of his wor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giving them the herita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na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orks of the Lord’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nds are faithfu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jus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precepts 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trustworthy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6:34Z</dcterms:modified>
  <cp:revision>261</cp:revision>
  <dc:subject/>
  <dc:title>PowerPoint Presentation</dc:title>
</cp:coreProperties>
</file>