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68:1-10, 32-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’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heave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’s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67:1-10, 32-3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8:2,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0257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in in abundance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ed abro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restored your herit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t languish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flock f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dwelling in i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goodness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provided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edy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kingdoms of the ear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Rider in the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ancient heave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voice goes fo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ighty v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cribe power t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majesty is over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se power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k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rous is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sanctu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Israe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ives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peopl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763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God ar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God’s enem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scatter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ose who hate God fl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smoke is driven a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drive them awa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wax melts before fi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 per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let the righteous be joyfu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exult before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be jubilant with jo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God, sing pra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od’s na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a song to the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rides upon the cloud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 before the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name is Lord!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oly habi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father of orph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rotector of wido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gives the desolate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me to dwell 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ads ou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isoners to prosperit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rebellious dwe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parched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0257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when you went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your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marched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quak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ured down wa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the presence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Sin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the presence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Isra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0:09Z</dcterms:modified>
  <cp:revision>121</cp:revision>
  <dc:subject/>
  <dc:title>PowerPoint Presentation</dc:title>
</cp:coreProperties>
</file>