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lad in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for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upright in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391880" y="1219320"/>
            <a:ext cx="12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2: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223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be like an unruly ho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a mu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out understand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temper m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urbed with bit and brid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y are the pa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ck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rounds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st in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4320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lad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joice, O righteo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t for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you upright in heart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29528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nsgression i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sin is cov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ose wh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oes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d guil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whose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 de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did not declare my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body wasted a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my groa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day lo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day and n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and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y upon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rength was dried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by the heat of summ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2700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cknowledged my sin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did not hide my iniqu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aid, “I will confess m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nsgressions to the Lord”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you forgave the guil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si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let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are god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 prayer to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a time of distr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ush of great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not reach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a hiding place fo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roub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encompass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deliver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instruct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ac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ay you should go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counsel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my eye upo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9:27Z</dcterms:modified>
  <cp:revision>67</cp:revision>
  <dc:subject/>
  <dc:title>PowerPoint Presentation</dc:title>
</cp:coreProperties>
</file>