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4B43-FE4F-4588-AD71-16E23A167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4381-CA8F-44B4-B2D2-0299C813A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B246-AF48-44C9-A67E-F24E5720B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D2BA-1C94-4627-BEBB-AFB96ECB4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7C74-0909-442E-A622-5F8AD6327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7BEB-2362-4852-95C4-BC1632C86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8AD1-296F-41F6-A4CB-5EFFADD24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0328-BBBD-404A-820F-AE45418CB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E8C7-1404-4ED3-8E13-201D04DED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29D8-163C-4A63-B5C7-E9413E8CE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D599-CDF3-48EA-81D7-A07216B16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86B7-0DA0-445C-A3F4-06647506F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D4C33-2184-49F6-B048-86E0983F58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salm 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2590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g praise to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reigns ab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God of all creatio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8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369120" y="1701720"/>
            <a:ext cx="2689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         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Johann J. Schult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trans. by Frances E. Co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92232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 1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(New Year, Trinity &amp; General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04920" y="2101680"/>
            <a:ext cx="883908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7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ll sheep and oxen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also the beast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of the field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04920" y="1735200"/>
            <a:ext cx="883908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8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birds of the air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and the fish of the sea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atever passes along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the paths of the sea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04920" y="1735200"/>
            <a:ext cx="8839080" cy="26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9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 Lord, our Lord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ow majestic is your nam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in all the earth!                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981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ny and grea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re thy thing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ker of earth and sk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8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922320"/>
            <a:ext cx="914400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 2 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(General) 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   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Joseph R. Renvil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          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para. by Phillip Frazi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1371600"/>
            <a:ext cx="8839080" cy="33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br>
              <a:rPr sz="3000"/>
            </a:b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4400" spc="-1" strike="noStrike" baseline="30000">
                <a:solidFill>
                  <a:srgbClr val="333399"/>
                </a:solidFill>
                <a:latin typeface="Times New Roman"/>
              </a:rPr>
              <a:t>1</a:t>
            </a:r>
            <a:r>
              <a:rPr b="1" i="1" lang="en-US" sz="4800" spc="-1" strike="noStrike" baseline="30000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 Lord, our Lord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ow majestic is your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name in all the earth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r>
              <a:rPr b="1" lang="en-US" sz="4800" spc="-1" strike="noStrike" baseline="30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r glory is chante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above the heaven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by the mouth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of babes and infants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04920" y="184320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ou have set up a defens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against your foe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to still the enem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and the avenger.           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04920" y="1735200"/>
            <a:ext cx="883908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3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en I look at your heaven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the work of your fingers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moon and the star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which you have established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04920" y="1735200"/>
            <a:ext cx="883908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4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at are human being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that you are mindful of them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mortals that you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care for them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04920" y="1735200"/>
            <a:ext cx="883908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5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 have made them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little less than God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crowned them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with glory and hono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04920" y="1370160"/>
            <a:ext cx="883908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6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 have given them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dominion over th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works of your hands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ou have put all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things under their feet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student</cp:lastModifiedBy>
  <dcterms:modified xsi:type="dcterms:W3CDTF">2001-10-26T14:02:43Z</dcterms:modified>
  <cp:revision>23</cp:revision>
  <dc:subject/>
  <dc:title>PowerPoint Presentation</dc:title>
</cp:coreProperties>
</file>