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C2F6-E2B7-4D22-BD49-2154CA12C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A6BE-5047-4320-A094-CC437FCAF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5F04-BD8E-4321-B4F1-C85776AA8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773C-1680-434F-B101-F29BE98BD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7BBF-1845-4D16-B60C-3909A4C72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EF8D-EB7C-45CE-8761-D063D1E50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A1E3-04D6-4D38-9E20-666390F54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1F13-DE96-48BE-9AAC-54614B171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F6BA-A629-4CE1-A889-2DEBC1515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D128-06AD-4CF9-A000-C9D83A0B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741F-EC99-4BB5-AC45-940DE4F1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A8A6-85B1-46E2-A095-60FB14FA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6B694-F0C3-4276-BE3C-322AD9F8A9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2860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all who ta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fuge in you rejoi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em ever sing for jo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5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22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General)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s. 5: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118728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11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all who take refug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in you rejoic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let them ever sing for joy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defend them, that those who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love your name ma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exult in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1812960"/>
            <a:ext cx="883908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12</a:t>
            </a: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you bless the righteous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O Lord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you cover them with favo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as with a shield.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576360"/>
            <a:ext cx="8839080" cy="55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br>
              <a:rPr sz="3000"/>
            </a:b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ve ear to my words, O Lor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give heed to my groaning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arken to the sou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of my cr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my Ruler and my Go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for to you I pr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638280"/>
            <a:ext cx="88390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1" lang="en-US" sz="48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Lord, in the morn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you hear my voice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in the morning I prepar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a sacrifice for you, and wat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you are not a God wh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delights in wickedness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evil may not dwell with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638280"/>
            <a:ext cx="88390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1" lang="en-US" sz="48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boastful may not st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before your eyes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you hate all evildoe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You destroy those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who speak lies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the Lord abhors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bloodthirsty and deceitfu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293840"/>
            <a:ext cx="883908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1" lang="en-US" sz="48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ut, through the abundanc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of your steadfast lov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I will enter your hou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ward your holy templ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I will worship you in awe.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735200"/>
            <a:ext cx="8839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ad me, O Lord, i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your righteousnes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because of my enemie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ake your way straigh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before 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003320"/>
            <a:ext cx="88390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9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there is no tru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in their mouth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their heart is destructio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ir throat is an open grav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they flatter wi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their tongu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10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ke them bear their guil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O Go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let them fall by thei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own counsel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cause of thei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many transgression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cast them ou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for they have rebell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against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4:01:42Z</dcterms:modified>
  <cp:revision>22</cp:revision>
  <dc:subject/>
  <dc:title>PowerPoint Presentation</dc:title>
</cp:coreProperties>
</file>