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3:1-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ar as the 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rom the 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ar the Lord remo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from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3:1-1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02: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ways ch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harbor anger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oes not de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us accor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repay us accor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ur iniquit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s the heavens are hi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great is the Lor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ward the faithfu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far as the e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from the w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far does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ove our transg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father shows compas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childr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Lord sho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assion to the faith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kn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r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ememb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are dus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 mortals, their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like gra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flourish like a fl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fie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wind passes over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is g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place kno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no mo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from everlas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verlas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righteousnes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to children’s child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ose who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emember to 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commandme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29528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the Lord, O my soul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is withi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God’s holy na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 the Lord, O my so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get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God’s benefi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65104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forgives all your iniqu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eals all your diseas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redeems your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p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rowns you with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eadfast love and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atisfies you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od as long as you l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hat your youth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newed like the eagle’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who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justice for all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oppress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made known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s to Mo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acts to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Isra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erci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cio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low to anger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nding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eadfast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5:27Z</dcterms:modified>
  <cp:revision>214</cp:revision>
  <dc:subject/>
  <dc:title>PowerPoint Presentation</dc:title>
</cp:coreProperties>
</file>