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5:1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o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new their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5:1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. 40:3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ma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brah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promise sworn to Isaa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nfirmed to Jaco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stat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Israel as an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venant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To you I will g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nd of Cana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your por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n inheritance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ive thank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ll on God’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known God’s dee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peopl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praise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all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work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y in God’s holy na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hearts of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the Lord rejoi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s streng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k the Lor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nce continuall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e wonder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s God has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iracles and judg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utter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offspring of Abraha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serv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ildren of Jacob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chosen on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our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judgment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indful of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lasting coven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ord commanded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thousand generatio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5:53Z</dcterms:modified>
  <cp:revision>234</cp:revision>
  <dc:subject/>
  <dc:title>PowerPoint Presentation</dc:title>
</cp:coreProperties>
</file>