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EEE-9715-4D42-8809-319B53B8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489-FB43-4D03-873A-3D93D0D6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467-1AA8-47FE-9387-FC203397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B08-9F9B-4E8A-92AF-1A415AB8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C3F-EE3C-44DC-B93D-FCD82D21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904-3C82-4683-96BB-02993746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5CA-D9AD-4082-9253-2C656C96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162-53ED-4319-BD86-98DE9E59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E0B-E75B-40C1-BBD1-A18891D1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329-966A-4B83-8FF4-0987B07F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54D-C8D6-47F6-B1B6-E36B13CD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F3B-CB3B-4712-9111-9EACA1B2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B339-612F-4C7E-BD73-A8998C81B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:12-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d the n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o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justic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a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ds Response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:12-1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 T Kimbrough, J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(Ps. 72:1, 4, 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1600"/>
            <a:ext cx="88390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, O Lord; O Go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ift up your h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orget not the afflic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hy do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renounce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say in their hear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“You will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ll to account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35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indeed see, you no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rouble and vex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you may take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to your ha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38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unfortunate comm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mselves to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you have been the help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the orphan.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eak the arm of the wick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evildo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k out their wicke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ill you find n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73520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Rul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or ever and eve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ations shall per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rom God’s land.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you will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desire of the mee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will strengt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ir heart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incline your 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238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do justice to the orph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oppress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so that people on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may strike terr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 more.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3:53Z</dcterms:modified>
  <cp:revision>28</cp:revision>
  <dc:subject/>
  <dc:title>PowerPoint Presentation</dc:title>
</cp:coreProperties>
</file>