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3A9-8872-492D-B5F5-A5D496F1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0B6-83B8-4F3A-BCB6-92E1841C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294-C616-4CAA-A16F-C1A8F976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B89-A5C4-41BB-A316-DC541197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9BF-030F-4427-8904-7CA1642D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484-04BA-4B2D-8779-A95FD616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FBE-787A-4965-B6BE-44C2C858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969-3043-44B3-B3A6-9939784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F84-5E3A-42EC-8233-E89A483A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D3E-0936-4D08-96C5-8AAD51AE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297-AA80-4DDB-9932-39FA9749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FCF-68F9-4E95-BC87-E55F305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8D7D-DE48-4AD8-997F-1ED6C8271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ance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is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:8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76360"/>
            <a:ext cx="883908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how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re my foe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any are rising against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ny are saying of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“There is no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or him in Go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5619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, O Lord, are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ield about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y glory, an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fter of my h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ry aloud to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answers 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his holy hill.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e down and slee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ake again, for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ustains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not afrai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en thousand peo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o have set themsel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me on ever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 me, O my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strike all my enem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n the chee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you break the tee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the wick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1296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ance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to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your blessing be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your people!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0:49Z</dcterms:modified>
  <cp:revision>20</cp:revision>
  <dc:subject/>
  <dc:title>PowerPoint Presentation</dc:title>
</cp:coreProperties>
</file>