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366-F99F-4B31-9066-A9BEB46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240-CDFB-4AE5-B23D-2625E1A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499-7934-47D9-92E5-BE6F3939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BAA-3D8F-41CC-9C94-2627D10F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C8D-6C14-4BA7-BD02-CF8525B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D34-6199-40B3-8471-7BF0389D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160-3903-4D41-A8FB-FEF2FD6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3A9-59A0-4C03-ACE0-183BF7F6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352-FE1D-40FE-8C33-DEB39E5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643-43E7-4A6F-B6D5-DA352C99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10D-9E7B-433E-BAE5-FFB43CE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B9C-5D35-4E4C-843C-01562A7F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0770-0E5F-494D-8E4C-95FA4615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2080" y="1143000"/>
            <a:ext cx="88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. 6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, All Saints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ler of glor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78680" y="11430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4:3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ullness thereof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 and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well there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has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riv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cle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s and pure hear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o not lift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uls to what is fal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 not swear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ill receiv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indication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thei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is the gene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ose who seek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the fa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53:50Z</dcterms:modified>
  <cp:revision>47</cp:revision>
  <dc:subject/>
  <dc:title>PowerPoint Presentation</dc:title>
</cp:coreProperties>
</file>