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D56-5B23-420D-ACCA-F9460985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C5D-F452-43B5-B717-FA8C6F1E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354-75B4-46C3-8B2E-8B378DA3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6D6-0038-4845-8A47-34B5FF11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098-F247-44AE-98AF-8D3C47C7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246-6DC9-4AA6-BC6B-3159EBD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5C7-48D5-4D69-B56E-A07522E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F8F-32EF-4B9C-B6C4-A7BB2333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867-9B35-4472-B889-C3B09B28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9D1-5EA0-4E63-9890-5083DDCE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C29-B019-4321-A8CC-90EAE93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FD1-EEC1-43E6-850A-D5BAB5D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CE0-BA33-437A-96B6-D21960BB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Lent, Funerals/Memorial Services,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0:1-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eliver me, O Lord.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the dep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ry to you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hear my voi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ears be attent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voi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upplica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f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mark iniquit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ho could st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re is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you m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worship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wait for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wai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’s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op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 for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ch for the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ch for the mo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 Israel, hope in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ith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Lord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nteous redemp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Lor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ll iniquiti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9:05Z</dcterms:modified>
  <cp:revision>33</cp:revision>
  <dc:subject/>
  <dc:title>Psalm</dc:title>
</cp:coreProperties>
</file>