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AD0-1C4B-4AE6-9584-5CA2FBC9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952-98E6-49E9-9F9D-55C5B9A2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812-B2D0-4DD2-89A3-A7FA6504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6C6-52F6-4638-AB3A-BC2147C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139-435A-4A13-8EE6-F9CA149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9A4-54A0-401E-B4D6-09CA1AB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0B9-89FC-4312-973D-4246ED92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7E6-F572-494C-B90D-BEC284B3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260-F39C-4707-B32A-FA94770E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850-E711-49B0-B52E-7D1C71E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525-EA5B-4C10-B290-9C85675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0C2-C61D-4CDD-ADC7-606CB73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F90-8FF5-403D-8EF6-4188C066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5:1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ltz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5909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5:1-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n your mid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Egy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d signs and wond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Pharaoh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servan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truck many n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lew many kings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hon, king of the Amorit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g, king of Bash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e kingdo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anaa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ve their l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a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heritage to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renown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out all ag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will vindic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ve compa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his serva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pra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servants of the Lord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that stand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urt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our God!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o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’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racio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chos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as God’s 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as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wn possess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ea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our Lord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all go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ever the Lord plea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d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eaven and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as and all dee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the Lord who mak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rise a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s lightn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s wind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ehouse of G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was the Lord who stru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-born of Egy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imal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23Z</dcterms:modified>
  <cp:revision>43</cp:revision>
  <dc:subject/>
  <dc:title>Psalm</dc:title>
</cp:coreProperties>
</file>