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51:1-1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st me not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your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no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pirit from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51:1-1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sh Wednesday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51:1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76320"/>
            <a:ext cx="914400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Purge me with hyssop, and 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I shall be clean; wash me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and I shall be whiter than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snow;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320" y="457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ake me hear with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joy and gladness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let the bones which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u have broken rejoic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de your face from m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ins, and blot ou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my iniquities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6320" y="38088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reate in me a clea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heart, O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put a new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right spirit within 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6320" y="152280"/>
            <a:ext cx="8839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st me not awa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rom your prese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take not y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ly Spirit from m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320" y="15228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estore to me the joy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your salvation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sustain in 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willing spirit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76320"/>
            <a:ext cx="90676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n I will teac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ransgressors your way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sinners w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turn to you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2649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eliver me from death, O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od of my salvation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my tongue will sing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loud of your deliveranc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28600" y="76320"/>
            <a:ext cx="8839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Lord, open my lip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my mou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show for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r prais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320" y="21096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r you have no deligh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 sacrifice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ere I to giv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burnt offering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u would not be please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1676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: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reate in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clean heart, 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renew a right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irit within m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51:1-1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51:1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51:1-1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7640"/>
            <a:ext cx="914400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i="1" lang="en-US" sz="55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The sacrifice acceptabl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to God is a broken spirit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 broken and contrite    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heart, O God, you will not   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despise 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5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53352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Have mercy on me, O God,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ccording to your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teadfast love;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457200"/>
            <a:ext cx="91440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: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ccording to your abundant mercy blot out my transgressions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320" y="228600"/>
            <a:ext cx="8839080" cy="45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ash me thoroughly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rom my iniquity,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nd cleanse me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rom my sin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320" y="152280"/>
            <a:ext cx="8839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5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I kn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transgressi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my sin 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 before m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842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Against you, you only, have</a:t>
            </a:r>
            <a:br>
              <a:rPr sz="5000"/>
            </a:b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I sinned, and done that which</a:t>
            </a:r>
            <a:br>
              <a:rPr sz="5000"/>
            </a:b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is evil in your sight, </a:t>
            </a:r>
            <a:br>
              <a:rPr sz="5000"/>
            </a:b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so that you are justified in your</a:t>
            </a:r>
            <a:br>
              <a:rPr sz="5000"/>
            </a:b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sentence, and blameless in </a:t>
            </a:r>
            <a:br>
              <a:rPr sz="5000"/>
            </a:b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your judgmen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7632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5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hold, I was born int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iquity, and I have be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inful since my mother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nceived me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320" y="30492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hold, you desir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ruth in the inward being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refore teach 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isdom in my secret heart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5T15:08:18Z</dcterms:modified>
  <cp:revision>106</cp:revision>
  <dc:subject/>
  <dc:title>PowerPoint Presentation</dc:title>
</cp:coreProperties>
</file>