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37:1-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743200"/>
            <a:ext cx="9144000" cy="279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 justly, love mer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humb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ords © 1950 Oxford University 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37:1-1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1295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Albert F. Bayly (Mic. 6:8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et a little whi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wicked wi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no mor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ugh you look at their pla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will not be the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600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the meek sh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ossess the lan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delight 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bundant prosperity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308240"/>
            <a:ext cx="8839080" cy="40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not be ang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of the wick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not be envio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wrongdoer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y will so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ade like the gras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wither lik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green herb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ust in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do goo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you will dwell in the lan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enjoy securi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220824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ke delight in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will give you the desires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your heart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mit your way to the Lor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ust in God, who will act,</a:t>
            </a:r>
            <a:br>
              <a:rPr sz="4800"/>
            </a:b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ringing forth your vindic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the ligh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your ri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the noon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74448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 still and wait patientl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fore the Lor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o not be angry becau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ose who prosp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ir wa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cause of those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arry out evil devices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frain from ang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orsake wrath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not be angr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leads only to ev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wick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ll be cut off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those who wait fo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sh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ossess the la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11:10Z</dcterms:modified>
  <cp:revision>76</cp:revision>
  <dc:subject/>
  <dc:title>PowerPoint Presentation</dc:title>
</cp:coreProperties>
</file>