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has vis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deeme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Lk. 7: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839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, O serva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be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time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evermor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rising of the su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its set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ame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to be praise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high ab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the heave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lik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seated on hig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ooks far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heave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ear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raises the po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ifts the nee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ash heap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ake them s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princ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pri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’s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gives the barr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man a h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ing her the joy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ther of children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6:53Z</dcterms:modified>
  <cp:revision>267</cp:revision>
  <dc:subject/>
  <dc:title>PowerPoint Presentation</dc:title>
</cp:coreProperties>
</file>