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57200" y="457200"/>
            <a:ext cx="8686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2286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salm 4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"/>
          <p:cNvSpPr/>
          <p:nvPr/>
        </p:nvSpPr>
        <p:spPr>
          <a:xfrm>
            <a:off x="0" y="220968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end out your ligh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your truth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them lead 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salm 43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spons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0" y="9223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ESPONSE 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(General)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Ps. 43: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4920" y="942840"/>
            <a:ext cx="8839080" cy="480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1</a:t>
            </a:r>
            <a:r>
              <a:rPr b="1" i="1" lang="en-US" sz="4800" spc="-1" strike="noStrike" baseline="30000">
                <a:solidFill>
                  <a:srgbClr val="333399"/>
                </a:solidFill>
                <a:latin typeface="Times New Roman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Vindicate me, O God,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defend my caus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gainst an ungodly people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rom the deceitful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unjust deliver me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04920" y="1187280"/>
            <a:ext cx="88390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2</a:t>
            </a:r>
            <a:r>
              <a:rPr b="1" i="1" lang="en-US" sz="4800" spc="-1" strike="noStrike" baseline="30000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or you are the God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n whom I take refuge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y have you cast me off?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y must I mourn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because of the oppression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f the enemy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04920" y="1187280"/>
            <a:ext cx="88390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3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 send out your light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your truth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et them lead m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et them bring m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o your holy hill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to your dwelling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04920" y="1187280"/>
            <a:ext cx="88390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4</a:t>
            </a:r>
            <a:r>
              <a:rPr b="1" i="1" lang="en-US" sz="4800" spc="-1" strike="noStrike" baseline="30000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n I will go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o the altar of God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o God my exceeding joy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I will praise you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ith the lyre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 God, my Go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04920" y="1919160"/>
            <a:ext cx="883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5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y are you cast down,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 my soul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why are you disquiete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ithin me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04920" y="2208240"/>
            <a:ext cx="88390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ope in God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om again I shall praise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my help and my God.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student</cp:lastModifiedBy>
  <dcterms:modified xsi:type="dcterms:W3CDTF">2001-10-26T14:12:06Z</dcterms:modified>
  <cp:revision>86</cp:revision>
  <dc:subject/>
  <dc:title>PowerPoint Presentation</dc:title>
</cp:coreProperties>
</file>