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89:1-4, 19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Jesse’s ro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ranch shall gr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coven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fulfil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9:1-4, 19-3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dvent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 T Kimbrough, Jr. (Is.11: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nemy shall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wit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icked shall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mble hi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crush 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es before hi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trike down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hate hi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faithfulness and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be with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my name sh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horn be exal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et his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se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is right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river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He shall cry to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‘You are my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God, and the Ro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my salvation.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will make h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first-bor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ighest of the k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teadfast love I will kee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him for e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stand firm for hi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establish 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ne for e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is throne a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ys of the heave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his childr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sake my la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o not walk accor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y ordinanc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they violate my statut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o not k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commandment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 is consta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generatio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9:1-4, 19-3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89:2,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I will punish thei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nsgression with the r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ir iniqu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scourg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I will not remove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m my steadfast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be fal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my faithful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not viol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alter the word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nt forth from my lip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ce for all I have swor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my holin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not lie to Dav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line shall endure for e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throne as lo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 sun before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the mo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shall be establis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shall stand firm whi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kies endure.”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57636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sing of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for ev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my mouth I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claim your faithful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gener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steadfast love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tablished for ev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faithfulness is fir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the heave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said, “I have ma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covenant with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sen 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ave sworn to Dav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ervan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‘I will establish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scendants for ev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uild your thr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all generations.’ 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n you spoke in a vis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r faithful 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aid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I have set the cr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one who is 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ve exalted 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osen from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ave found Davi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ervan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my holy oi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ave anointed hi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that my hand shall e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ide with hi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arm also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ngthen hi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2:38Z</dcterms:modified>
  <cp:revision>159</cp:revision>
  <dc:subject/>
  <dc:title>PowerPoint Presentation</dc:title>
</cp:coreProperties>
</file>