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exalted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heave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glory o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be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Christ the King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57: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9072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reigns and is rob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ajes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robed and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rded with streng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 establis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l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shall never be mov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throne has be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ablished from of ol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rom everlasting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loods have lifted u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loods have lif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their voi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loods lift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roar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ghtier than the thund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many wat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ghtier than the wa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sea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on high is might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decrees are very sur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iness befits your hou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for evermor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3:19Z</dcterms:modified>
  <cp:revision>170</cp:revision>
  <dc:subject/>
  <dc:title>PowerPoint Presentation</dc:title>
</cp:coreProperties>
</file>