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F1A-E6E7-44F6-8F08-B65BC2C5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296-87C9-47D8-9E4D-FC0833A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05B-C31B-4915-AFC1-832E153B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8BE-2DC9-4FC5-9177-D2C50C73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AD2-657F-4798-85C0-1CD20480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D7B-8D8D-4541-905F-E5F5FD2E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361-FF03-4C9C-9776-BA6854F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4DB-0793-4D33-AA8B-57DCBC0C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05C-198C-40B7-8B61-4E4FADC3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45E-2899-46B7-8A0E-4084F87F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E25-6F9F-486D-87C9-DA3434B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DFD-BA88-4EA8-925C-0CB52F5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7E05-76EF-473D-94EF-09495108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ames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Davi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Son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the sake of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latives and frie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s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Peace be within you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20824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 ou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eek your goo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122:6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8600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for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rusal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your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as glad when the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id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Let us go to the ho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eet were sta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in your gat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Jerusale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Jerusalem is built as a c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s b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rmly togeth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which the tribes go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ribes 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give thanks to the 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as decreed for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nes for judgm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re set the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hrones of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David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Pray for the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Jerusale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they prosp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ove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ace be within your wal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ecur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in your towers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6:58:06Z</dcterms:modified>
  <cp:revision>26</cp:revision>
  <dc:subject/>
  <dc:title>Psalm</dc:title>
</cp:coreProperties>
</file>