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5:1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trust in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time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15:9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6765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house of Aar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st in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i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shiel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43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You who fea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st in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i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shiel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4284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to u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to us, but to your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sake of your steadf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 and faithfulnes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should the nations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Where is their God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God is in the heave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ever God plea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do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idol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lver and g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k of human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mou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do not speak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yes, but do not s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do not hea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ses, but do not sm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hand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do not feel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et, but do not walk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ats, but make no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43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make ido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like th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are all who trust in them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Israel, trust in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i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shie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7:14Z</dcterms:modified>
  <cp:revision>274</cp:revision>
  <dc:subject/>
  <dc:title>PowerPoint Presentation</dc:title>
</cp:coreProperties>
</file>