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2A3F-4761-44EE-96F7-C3C77FBA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DC92-3251-4717-9C97-B7884AE2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892C-1538-4CBD-9DD8-BB47B9C4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C3C5-4E46-485D-A0A2-EFBA23E5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36B-33C0-40DC-987D-F9F95F32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38A2-62F1-43CF-A4BB-D239A4A0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FF35-AE0A-4C93-B830-0D63DAE0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BA98-AEC1-4149-AAF6-CA362187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DC0-39DB-47B4-A20D-EA8AE944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6F13-9B70-4238-A20E-31D27175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6135-6960-4EA6-B565-46B66842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C78-6C58-47B4-90A9-197973DB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D8F2-0C96-4446-8140-D434EA9AD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Evening Prayer &amp; General)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41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362320"/>
            <a:ext cx="8534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prayers r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incen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ands lik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ning sacrific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3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1109520"/>
            <a:ext cx="861048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e, bless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you servants of the Lor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stand by night in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use of the Lor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an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holy pla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less the Lor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220824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 the Lord who mad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 you from Zion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7:00:00Z</dcterms:modified>
  <cp:revision>40</cp:revision>
  <dc:subject/>
  <dc:title>Psalm</dc:title>
</cp:coreProperties>
</file>