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E85-7B85-475E-B4DA-E59D4D39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E95-4762-480D-AD49-79CEDEBE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3CC-C9E4-45BB-A3D0-F89700A9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875-283D-4625-8358-882013E1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441-A2B9-4B3B-BBC0-4A16DB1C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B64-ADB5-49D5-9637-0F68A146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826-32EF-48AA-B7D7-471D6798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4CE-068E-4781-9009-BC4A8136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D6C-841A-41C4-875B-99FB272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474-8FB6-4790-B6DF-048E082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F98-BB3C-4A6D-B4E2-6708051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C77-3FBA-40F8-B78F-EF58602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E4B1-52B6-4285-B273-617FBF361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Albert Tind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or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re ra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by 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65888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t had not been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s on our side–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Israel now say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t had not been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on our sid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foes rose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u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they would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wallowed us up ali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ir anger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indled against u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the flood would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wept us a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orrent would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ne over u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the raging wa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uld have g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lessed b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not give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prey to their teet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3701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escaped as a bi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sna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fowler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nare is brok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e have escap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elp is in the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made heav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arth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8:25Z</dcterms:modified>
  <cp:revision>28</cp:revision>
  <dc:subject/>
  <dc:title>Psalm</dc:title>
</cp:coreProperties>
</file>