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957E-C2BA-44E8-BE55-EBBE32F8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8CD9-CD99-4867-8449-CBD1A15F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AB0A-4BBE-4DDC-B4E3-06BC86EF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ED6E-C9C2-4145-AA41-1EA096BB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DC0D-F24C-4218-BE52-4E824DEB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A094-2224-49B5-AB5C-88CF9991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353-954A-4542-8498-D47E995D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2EE8-42D2-4FBD-B414-3AD653C8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018-3FD1-4B41-ADF8-0CC81D00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9AFB-7B19-48F5-AA59-24E7E105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DF45-5CD3-4D42-9048-5C30FE80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7955-C8B4-4FF8-A2AB-527EE153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E515-06A1-48EB-9174-A99C61CDB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(Easter &amp; General)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 T Kimbrough, J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514600"/>
            <a:ext cx="8534160" cy="27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ite us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ite us by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lov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3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129384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hold, how good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leasant it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we live toge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unit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820800"/>
            <a:ext cx="86104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like the precious oi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on the hea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unning dow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on the bea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on the beard of Aar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unning down on the colla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his rob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like the de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Herm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falls on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untains of Zio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2208240"/>
            <a:ext cx="86104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re the Lord h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manded the bless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fe for evermore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6:59:44Z</dcterms:modified>
  <cp:revision>38</cp:revision>
  <dc:subject/>
  <dc:title>Psalm</dc:title>
</cp:coreProperties>
</file>