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66:8-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, be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for jo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God’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la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66:8-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67:4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ut truly God has listen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as given heed to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ice of my pray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lessed be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has not rejec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pray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removed his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from m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7636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our God, O peo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sound of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be heard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kept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 liv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s not let out feet sli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810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, 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tested 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tried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silver is t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brought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the ne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laid affli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our loin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let people r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our head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ent through fi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rough wat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you have brought us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a spacious plac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come into your ho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burnt offering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pay you my vows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hich my lips utte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mouth promi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was in trou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offer to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rn offerings of fatli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smo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sacrifice of ram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make an offer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bulls and goa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and he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 who worship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will tell w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done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ry aloud t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highly prais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my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cherished iniqu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oul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listen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49:39Z</dcterms:modified>
  <cp:revision>115</cp:revision>
  <dc:subject/>
  <dc:title>PowerPoint Presentation</dc:title>
</cp:coreProperties>
</file>