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1981080"/>
            <a:ext cx="9144000" cy="355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distr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ry to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t us fr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apt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0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John Holbert (Ps. 102:2, 2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 eat ashes like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ingle tea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my drink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of your indign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nger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taken me u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rown me aw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days are lik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 evening shadow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ther a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gras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you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enthroned for ever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name endur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all genera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will arise and ha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ty on Zio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the time to favor i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appointed ti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s c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90512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r servants ho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s stones dea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ave p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its du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ations will fea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ame of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l the kings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rth your gl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wi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ild up Z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ill appea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his glory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will regard th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yer of the destitut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ill not despi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prayer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is be recorded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generation to co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at a people yet unbo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praise the Lor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03976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 my prayer, O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my cry come to you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the Lord looked dow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his holy he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heaven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oked at the ear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hear the groa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prisone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set free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re doomed to di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the name 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be declared in Z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od’s prai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Jerusal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220824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peoples and kingdom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ather together to worship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has brok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trength in mid-cour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as shortened my day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O my God,” I sa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Do not take me a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midst of my day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whose years endu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out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enerations!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old you laid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undation of the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heavens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ork of your han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will perish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you endur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will all wear ou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a garm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change them like raime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y pass away;</a:t>
            </a:r>
            <a:br>
              <a:rPr sz="4800"/>
            </a:b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you are the s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your years have no e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children of your servan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dwell secur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posterity shall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tablished before you.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 not hide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ce from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day of my distress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cline your ear to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swer me speedily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day when I call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my days pass aw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smok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bones bu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a furn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heart is smitten lik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ss, and wither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am too wast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eat my br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of m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ud groan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bones cle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my fles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am like an ow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wilder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a little ow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waste place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lie awak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m like a lonely bi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the houseto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days my enemi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unt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se who deride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se my name for a cur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5:15Z</dcterms:modified>
  <cp:revision>204</cp:revision>
  <dc:subject/>
  <dc:title>PowerPoint Presentation</dc:title>
</cp:coreProperties>
</file>