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3F8-021D-40C2-AC2F-E0916CCE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7F6-D3EA-43EE-9942-64A9EB70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5ECC-E9FF-410F-A6A7-6A99BF9F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E6F-9AF4-4AD4-9B01-19D0B589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B09-B471-4D99-8734-333FC402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022-C45C-4345-8FEF-3E0BFB9D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537-9D77-43D7-97D2-498FC2F1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81C-B47B-465D-A061-081B59C4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B39-58BD-4AA8-AF4C-99AC20D8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591-6A96-422C-9DD0-1D2CDCD1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DCE-2039-409B-857E-8014820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78B-E0A3-409D-A31D-CFD32B28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A530-489D-41C7-AA8E-52593034C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Christmas, Epiphany, General)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harles Wes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81952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eigns abov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giv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beasts their fo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o the you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vens that c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735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takes no de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might of a hor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pleasure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trength of a runne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 Lord takes pleasu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faith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ose who hope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’s steadfast lov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 O Jerusalem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your God, O Z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strengthe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bars of your gat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s your childr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mids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s peace in your bord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lls you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nest whe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sends fo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mands to the earth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d runs swift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g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now like woo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catters hoarfrost like ashe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676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sts forth ice like morsel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can withstand its col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sends fo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d and melts them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s the wind bl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waters fl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29384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t is good to sing prais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our G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ong of praise is fit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declar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d to Jacob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tatutes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dinances to Isra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760" y="125568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has not dealt th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any other natio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do not k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’s ordinanc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buil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 Jerusalem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athers the outcas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Isra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heal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rokenheart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inds up their woun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determi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umber of the sta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ive to all of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nam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is ou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bundant in pow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understan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beyond measu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lifts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owntrodd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casts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ground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anksgiving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 melody up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yre to our G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overs the heave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clou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pares rain for the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s grass gr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the hi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2:41Z</dcterms:modified>
  <cp:revision>70</cp:revision>
  <dc:subject/>
  <dc:title>Psalm</dc:title>
</cp:coreProperties>
</file>