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457200"/>
            <a:ext cx="86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9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0" y="2666880"/>
            <a:ext cx="9144000" cy="161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nt us salvation, Lor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rouble be our refug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9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10666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Lent  &amp; General)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s. 91:16, 15, 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9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cause you have mad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your refug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Most Hig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r habitatio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220824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0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 evil shall befall you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 scourge com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ear your tent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228456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1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God will give hi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gels charge over you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guard you in all your way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y will bear you up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n their hand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st you dash y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ot against a ston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3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will tread on the lio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the adder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young lion 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serpent you wi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rample under foo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1370160"/>
            <a:ext cx="8839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4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cause they cleave to 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love, I will deliver them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will protect them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cause they know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na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5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n they call to 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will answer them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will be with them in troubl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will rescue the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honor th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184320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6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will satisfy them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 long lif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show them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salvation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942840"/>
            <a:ext cx="88390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ose who dwell in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helter of the Most Hig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abide in the shadow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the Almight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ll say to the Lor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2362320"/>
            <a:ext cx="883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“My refuge and my fortress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my God, in whom I trust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the Lord will deliver you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the snar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the fowl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from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eadly pestilenc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927000"/>
            <a:ext cx="88390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will cover you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his pinion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under the Lord’s wing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will find refuge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od’s faithfulness is a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ield and buckler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will not fea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terror of the nigh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r the arrow tha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lies by day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84320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r the pestilence tha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talks in darknes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r the destruction tha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astes at noond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thousand may fall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t your sid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en thousand a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r right han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ut it will not come near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will only look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 your ey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see the recompens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the wick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4:52:59Z</dcterms:modified>
  <cp:revision>165</cp:revision>
  <dc:subject/>
  <dc:title>PowerPoint Presentation</dc:title>
</cp:coreProperties>
</file>