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57200" y="457200"/>
            <a:ext cx="8686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2286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salm 2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"/>
          <p:cNvSpPr/>
          <p:nvPr/>
        </p:nvSpPr>
        <p:spPr>
          <a:xfrm>
            <a:off x="0" y="20574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with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 the fountain of lif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your l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o we see l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27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7696800" y="1143000"/>
            <a:ext cx="108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Ps. 36: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0" y="922320"/>
            <a:ext cx="56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SPONSE 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(General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7</a:t>
            </a: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ear, O Lord,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en I cry alou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e gracious to m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answer me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04920" y="2284560"/>
            <a:ext cx="8839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8</a:t>
            </a: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“Come,” my heart sai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“seek the Lord’s face.”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our face, O Lord,  I seek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9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ide not your face from me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urn not your servan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way in anger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you have been my help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04920" y="744480"/>
            <a:ext cx="883908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0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ast me not off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orsake me not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 God of my salvation!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f my father and mother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hould forsake m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Lord woul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ake me up.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04920" y="2284560"/>
            <a:ext cx="8839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1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Teach me your way, O Lord: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lead me on a level path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ecause of my enemie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04920" y="1187280"/>
            <a:ext cx="8839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2</a:t>
            </a: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Give me not up to the will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f my adversaries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or false witnesses hav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risen against m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they breath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ut violenc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04920" y="2284560"/>
            <a:ext cx="8839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3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I believe that I shall se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goodness of the Lor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the land of the living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4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ait for the Lord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e strong, and le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our heart take courage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ait for the Lord!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04920" y="393840"/>
            <a:ext cx="8839080" cy="59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Lord is my ligh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my salvation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om shall I fear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Lord is the stronghol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f my life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f whom shall I be afraid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04920" y="173520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en evildoers assail m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devour my flesh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y adversaries and foe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hall stumble and fal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04920" y="1552680"/>
            <a:ext cx="8839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3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ough a hos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ncamp against m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y heart shall not fear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ough war arise against m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et I will be confiden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4920" y="1981080"/>
            <a:ext cx="883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4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ne thing I asked of the Lor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at will I seek after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760320"/>
            <a:ext cx="883908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2286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468360"/>
                <a:tab algn="l" pos="851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at I may dwell in the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ous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f the Lor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ll the days of my lif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o behold the beaut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f the Lor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to inquire in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Lord’s temple.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820800"/>
            <a:ext cx="883908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5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Lord will hide m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his shelte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the day of troubl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ill conceal me unde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cover of his ten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will set m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igh upon a rock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6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no my head shall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e lifted up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bove my enemie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round about me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1492200"/>
            <a:ext cx="8839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I will offer sacrifice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 the Lord’s ten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ith shouts of joy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will sing and make melod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o the Lord.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student</cp:lastModifiedBy>
  <dcterms:modified xsi:type="dcterms:W3CDTF">2001-10-23T15:59:24Z</dcterms:modified>
  <cp:revision>51</cp:revision>
  <dc:subject/>
  <dc:title>PowerPoint Presentation</dc:title>
</cp:coreProperties>
</file>