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668-ED3D-43DA-BFBE-FFDDA97B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1B7-4CE5-44B1-B18F-7728026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D4C-8ABD-4C45-917E-544A2B5E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B0F-BDA2-47B8-99B4-B116CE90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714-8353-4489-8233-EF0B120E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F6A-5309-408A-97DF-E3777844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F58-5411-424E-9720-85FBFDBC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19B-6FFC-4E88-89DD-15E5FC91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D7F-692C-460E-80F8-593919F7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E40-C03E-41BA-975F-D794C16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976-F85F-468C-BEB7-7115DD0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B9D-FB95-4E25-A590-1512AC0D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62FE-D8A1-4861-83A5-7FCB81781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38:1, 2,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362320"/>
            <a:ext cx="8534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your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teadfast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fill your purpose for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tch out your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the wr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enem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s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fulfill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pose for m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may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endure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 not forsake the wor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hand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16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give you thanks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y whole hear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go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ing your prais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ow down towa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holy tem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 thanks to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me for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and faithfulnes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have exal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every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day I call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nswered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ngthened my life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ruler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praise you, O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y have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s of your mouth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y shall sing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ys of the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reat is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hig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regards the lowly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knows the haugh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far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I walk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dst of troub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serve my lif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10Z</dcterms:modified>
  <cp:revision>50</cp:revision>
  <dc:subject/>
  <dc:title>Psalm</dc:title>
</cp:coreProperties>
</file>