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6EAE-123D-447A-BE79-667C49A265A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4D39-E6E1-416F-9880-E519D966521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6C8E-7FBD-44CE-9E88-906C7F17AE9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E130-9392-4C67-A03D-1CAA72919FA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157F-81CC-429A-B58A-6FA390DB67C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7F56-67B4-4463-AB64-817780BFDD9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4553-D458-49FF-890D-BEF011A82A0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7A6F-CA7F-4B34-9E7A-4F346A03AD2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3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0" y="1981080"/>
            <a:ext cx="914400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soul wait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 the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o is our help and shield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3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0" y="114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, Easter &amp; Trinity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33:20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0" y="76320"/>
            <a:ext cx="9144000" cy="48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333399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5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et all the earth fear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ord, let all the 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habitants of the worl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tand in awe! 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3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0" y="1981080"/>
            <a:ext cx="914400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soul wait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 the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o is our help and shield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3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0" y="114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, Easter &amp; Trinity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33:20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0" y="533520"/>
            <a:ext cx="914400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or the Lord spoke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nd it came to be;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 Lord commanded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nd it stood forth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76320"/>
            <a:ext cx="914400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4d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01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baseline="30000">
                <a:solidFill>
                  <a:srgbClr val="333399"/>
                </a:solidFill>
                <a:latin typeface="Times New Roman"/>
              </a:rPr>
              <a:t>10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Lord brings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ounsel of the nation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 nothing and frustrate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the plans of the peoples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76320" y="45720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 counsel of the Lord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tands for ever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 thoughts of God’s heart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o all generations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0" y="76320"/>
            <a:ext cx="9144000" cy="47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333399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lessed is the natio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ose God is the Lord,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people whom the Lord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as chosen as a heritage!   </a:t>
            </a:r>
            <a:r>
              <a:rPr b="1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3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0" y="1981080"/>
            <a:ext cx="914400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soul wait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 the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o is our help and shield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3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0" y="114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, Easter &amp; Trinity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33:20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52280" y="609480"/>
            <a:ext cx="883944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 Lord looks down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rom heaven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nd sees all peoples;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104760"/>
            <a:ext cx="914400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333399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01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baseline="30000">
                <a:solidFill>
                  <a:srgbClr val="333399"/>
                </a:solidFill>
                <a:latin typeface="Times New Roman"/>
              </a:rPr>
              <a:t>14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Lord sits enthron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looks forth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n all the inhabitant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the earth,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52280" y="685800"/>
            <a:ext cx="883944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baseline="30000">
                <a:solidFill>
                  <a:srgbClr val="333399"/>
                </a:solidFill>
                <a:latin typeface="Times New Roman"/>
              </a:rPr>
              <a:t>15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ashioning the heart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them all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observing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ll their deeds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76320" y="76320"/>
            <a:ext cx="9067680" cy="44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joice in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you righteous!  Delight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praise, O you upright!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533520"/>
            <a:ext cx="91440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 king is not saved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y his great army;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 warrior is not delivered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y his great strength.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0" y="15228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800" spc="-1" strike="noStrike">
                <a:solidFill>
                  <a:srgbClr val="00664d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war horse is a vai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ope for victory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despite its grea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might it cannot save.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3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0" y="1981080"/>
            <a:ext cx="914400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soul wait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 the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o is our help and shield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3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0" y="114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, Easter &amp; Trinity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33:20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76320"/>
            <a:ext cx="914400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18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ehold, the eye of the Lord is on those who are faithful and hope for God’s steadfast love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19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o deliver their souls from death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nd to keep them alive in famine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228600"/>
            <a:ext cx="9144000" cy="40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333399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baseline="30000">
                <a:solidFill>
                  <a:srgbClr val="333399"/>
                </a:solidFill>
                <a:latin typeface="Times New Roman"/>
              </a:rPr>
              <a:t>20 </a:t>
            </a:r>
            <a:r>
              <a:rPr b="1" lang="en-US" sz="5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soul waits for the Lord, who is our help and shield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0" y="457200"/>
            <a:ext cx="91440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heart is gla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we tru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God’s holy name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76320"/>
            <a:ext cx="914400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333399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baseline="30000">
                <a:solidFill>
                  <a:srgbClr val="333399"/>
                </a:solidFill>
                <a:latin typeface="Times New Roman"/>
              </a:rPr>
              <a:t>22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et your steadfast lov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 Lord, be upon u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even as we hope in you.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3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0" y="1981080"/>
            <a:ext cx="914400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soul wait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 the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o is our help and shield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3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0" y="114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, Easter &amp; Trinity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33:20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3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0" y="23623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oul wa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is our help and shiel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3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0" y="114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, Easter &amp; Trinity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33:20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 saints, and s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pow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usic bring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3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Charles Wesley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76320"/>
            <a:ext cx="914400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4d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Praise the Lord with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yre, make melody to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ord, with the harp of  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en strings!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04920" y="1219320"/>
            <a:ext cx="8839080" cy="40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joice in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you righteous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light in prais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you upright!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ise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the lyr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ke melody to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the harp of ten strings!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ng to the Lord a new so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lay skillful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 the string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loud shouts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right is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ord of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se work is don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faithfulness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loves righteousn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justic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earth is full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eadfast love of the Lord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y the word of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heavens were mad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l their host by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reath of God’s mouth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gathered the wate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sea as in a bott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put the deep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storehouses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all the ear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ear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all the inhabitan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worl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and in awe!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Lord spok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t came to b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command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t stood forth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brings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unsel of the natio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noth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frustrates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lans of the peoples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609480"/>
            <a:ext cx="914400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3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ing to the Lord a new song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play skillfully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n the strings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with loud shouts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unsel of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ands for ev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thoughts of God’s hear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all generations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is the nat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se God is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people whom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s chosen as a heritage!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304920" y="19191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looks dow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heav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ees all peoples;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4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sits enthron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looks for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all the inhabitan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earth,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5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ashioning the hear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m al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observ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ir deeds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king is not sav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his great arm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warrior is not deliver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his great strength.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war horse is a va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pe for victor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despite its grea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ight it cannot sav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hold, the eye of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on those who are faithfu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hope for God’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eadfast love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deliver their souls from dea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o keep the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ive in famine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0 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soul waits for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is our help and shield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heart is gla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we tru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God’s holy name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15228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4d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i="1" lang="en-US" sz="5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Upright is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ord of the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ose work is don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faithfulness.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04920" y="220824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your steadfast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Lord, be upon 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ven as we hope in you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3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0" y="1981080"/>
            <a:ext cx="914400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soul wait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 the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o is our help and shield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3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0" y="114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, Easter &amp; Trinity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33:20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457200"/>
            <a:ext cx="91440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5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 Lord loves righteousness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nd justice;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 earth is full of the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teadfast love of the Lord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0" y="76320"/>
            <a:ext cx="914400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4d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y the word of the Lor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heavens were mad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all their host by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reath of God’s mouth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0" y="380880"/>
            <a:ext cx="91440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7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 Lord gathered the waters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f the sea as in a bottle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nd put the deeps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in storehouses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2-03-24T20:45:33Z</dcterms:modified>
  <cp:revision>72</cp:revision>
  <dc:subject/>
  <dc:title>PowerPoint Presentation</dc:title>
</cp:coreProperties>
</file>