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courts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ullness of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84:2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;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16:1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a day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rts is bet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 a thousand elsew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ould rather b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orkeeper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 dwell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nts of wicke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God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un and shie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stows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on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74448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good thing d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th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lk uprightly.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 in you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4792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lovely is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welling pl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 of hos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lo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eed it fai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courts of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and fle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for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living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 of hos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Ruler and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altars eve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arrow finds a h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wallow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st for her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she may lay her you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well in your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r singing your praise!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 is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se heart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ghways to Z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y go throug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alley of t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make it a pl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spr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ly rain als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vers it with poo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go from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treng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od of go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be seen in Z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Go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my pray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ear, O God of Jacob!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 our shield, O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ok upon the f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anointe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2:13Z</dcterms:modified>
  <cp:revision>149</cp:revision>
  <dc:subject/>
  <dc:title>PowerPoint Presentation</dc:title>
</cp:coreProperties>
</file>