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0E4-AC54-4210-8E08-A37FAC29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2C5-30CA-478C-8AE9-25A9A267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45E-5F3D-49EE-A830-6A1F7675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F9D-90CC-4D4D-A0FE-CB2DFF3A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9AE-7ED4-4303-BAD1-8A19ECF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A6C-C45A-4CA3-8593-F41A9685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E40-5B07-4F1A-BA8F-B4FB9BFC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549-A45F-45DF-B0D3-60A19FAD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624-867B-4E44-A2CD-F8D3072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AB3-6A4A-4898-A722-19D820C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10E-5894-4DFB-8DD9-E6AE0752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ED1-E8E8-4797-B21C-B3562CF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EFF-3F1B-4C9F-9FB9-9FC75D03E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lone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2240" y="11430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ho shall ab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ten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dwel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hi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wal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amelessly, and d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r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peaks tr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sla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 ev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akes up a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a neighb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se eyes a repro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despi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who honor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the Lor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put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ey at intere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t take a bri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the innoc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does these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never be mov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5:13Z</dcterms:modified>
  <cp:revision>35</cp:revision>
  <dc:subject/>
  <dc:title>PowerPoint Presentation</dc:title>
</cp:coreProperties>
</file>