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C15-1316-4B2A-A96F-1DF33DB1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0A5-7F02-4DE8-A9B5-C2452845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57E-122C-4EF0-B26E-43A1AA7A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7BB-7A4D-41BE-8A6C-AF92241E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E75-4108-47AF-A287-470F1390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27C-A232-4F47-A72B-8070BD41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6E5-94D1-4B1D-B0B1-C0125968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128-E30F-4D76-B4E8-A02CE773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F0F-68E5-46D2-B6A6-F5D98FAB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423-6779-43F0-8434-9CDD6896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40F-4501-446E-89F4-9B5069AB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D81-DE90-4AFD-BD36-EDE12647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01DD-9B5A-48F5-8F31-78F68BED4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90920"/>
            <a:ext cx="9144000" cy="203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ope is lo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life up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lan Luff  (Ezek. 37:1-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758880"/>
            <a:ext cx="8839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ols say in their hear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There is no Go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are corrup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do abominable deed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is none that does g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looks down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ven on all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e if there are 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are wi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eek afte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85724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have all gone astr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are all alike pervers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is none that does go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, not one.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they no knowledg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vildo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eat up my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y eat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o not call up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they shall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reat terro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God is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ener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righteo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would confou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plans of the po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ut the Lord is their refu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76032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that the deliverance f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rael would co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Zion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tores their fortun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cob shall rejoice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rael shall be glad!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4:59Z</dcterms:modified>
  <cp:revision>32</cp:revision>
  <dc:subject/>
  <dc:title>PowerPoint Presentation</dc:title>
</cp:coreProperties>
</file>