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BF3-C68D-43A2-B82F-8884B8A5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4C0-0A8E-4B79-809B-48401D3E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114-1CD7-4153-9602-042FF451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5BA-8699-41CB-84C5-EF2AF5A8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975-925F-4C3E-AE31-F8BFC130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F15-CCB1-4753-BD7B-CB6244C4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D4B-DD41-4034-9D72-78983D13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7C1-FE55-4C74-8183-6BF03F5E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9EE-4D05-4703-9B56-264314B3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D6E-2DA8-4578-908F-509C7217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24F-CCE0-47F6-8D68-DA899370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438-C995-452D-99C1-3CDB7AD8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636F-0831-4D02-A0DA-F4F5EC8C0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2:1-18, 25-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cred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ief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weigh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2:1-18, 25-3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ood Friday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non. Lat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rans. by Paul Gerha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Yet it was you who too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 from the womb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ept me safe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mother’s bre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you I was c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my bi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ince my m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re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been my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85724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 not be far from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rouble is n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re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ne to help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ny bulls encompass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ong bulls of Bash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rround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3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open w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ir mouths a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a rave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oaring l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066680"/>
            <a:ext cx="883908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4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poured out like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l my bone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of join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art is like wax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melted within my breas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mouth is dried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 potshe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y tongu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eaves to my jaw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lay me i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ust of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eed, dogs surround 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company of evildo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circles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have pierc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hands and feet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an count all my bones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stare and glo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divide my gar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ng th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or my raime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cast lots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nds of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emember and t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2:1-18, 25-3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Easter &amp; 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s. 22:2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you comes my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great congreg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vows I will p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ship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oor shall e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 satisfi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seek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praise the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your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 for e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ends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rememb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urn to the Lo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famil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worshi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8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dominion belo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ules over the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9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who sleep in the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bow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44792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go down to the du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bow dow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shall live fo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576360"/>
            <a:ext cx="883908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sterity shall serve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ch generation shall te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4800"/>
            </a:b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proclaim his delive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 people yet unbor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the Lord has done it.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93840"/>
            <a:ext cx="883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God, m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have you forsaken 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are you so f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helping me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wor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my groan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y God, I cry by d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you do not answe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y n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find no 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you, the praise of Israe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enthroned in holi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 our forebears trust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trusted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eliver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674720"/>
            <a:ext cx="883908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 they crie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ere sav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 they trusted,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re not disappointed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I am a wor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t huma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orned by oth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despised by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see me mock at 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make mouths at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ag their hea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He committed his ca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Lord deliver him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 Lord rescu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Lord delights in him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6:23Z</dcterms:modified>
  <cp:revision>44</cp:revision>
  <dc:subject/>
  <dc:title>PowerPoint Presentation</dc:title>
</cp:coreProperties>
</file>