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F7D-6C5C-4B00-B726-9DEDFF11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267-E38C-4FF1-92B5-3FC9F4F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AF8-6520-49EC-9DF7-9ED9FC07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EE9-A1EF-44B5-9B89-CED142AD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F3C-6267-4D62-9AA2-8B02770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AEC-7479-4A6B-8A68-5C2B2E82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FDD-FC86-4A44-A66D-767D83A0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193-C0FD-42AB-8973-FA320D8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118-D77D-417B-94E5-FF92D5F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1E2-251B-4676-8B8D-E6A12C9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2B0-53A3-4D4B-BC8A-0CBBAD9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7C4-D598-472B-AB6F-0CC6162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2D75-A0AF-4E81-AAB2-88661E92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7:1-7,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apple of your ey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hid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 of your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7:1-7,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73120" y="121932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7: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a just caus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end to my c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ear to my pray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lips free of dec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le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ion c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yes see the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3000"/>
            <a:ext cx="883908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try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visit me by n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you test me, you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nd no wickedness in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uth does no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nsgr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cerning what others do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avoided the 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viol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following your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eps have held 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pa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eet have not slipp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ll up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will answ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my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rously show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avior of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ir adversa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right h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92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 for me, I shall be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ace in righteous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 I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atisfi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ing your presenc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9:19Z</dcterms:modified>
  <cp:revision>37</cp:revision>
  <dc:subject/>
  <dc:title>PowerPoint Presentation</dc:title>
</cp:coreProperties>
</file>