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C80-7452-4537-9B8B-238F8B78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EF8-4831-465A-8985-2056F472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F5C-0BC3-41C0-9B52-FD090CDD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EF6-0B42-4C97-BF3F-8BCA9DAE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C2A-C0BB-442D-83AB-805F7B17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E1A-5772-4B35-9F8F-09DCD71C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02C-FFF9-43A0-A3AA-9B82F77F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5E5-2D8C-4CB9-A8EC-83FD2375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958-6F74-431E-8D56-CF3DE9CF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E58-3C8D-41D9-B4BE-F89A7453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23F-EFE6-4E02-B83A-083E3EBD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662-C0CA-4630-9561-88B24CA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C420-A2C0-45EA-8A10-157605206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il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nde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frican American Spir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76360"/>
            <a:ext cx="883908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 me when I c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God of my r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given me ro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en I was in distres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 gracious to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hear my pray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long, O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hall my honor suffer sha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long will you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vain wor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seek after li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938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know that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has set apart the righte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s God’s ow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en I call.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angry, but do not s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mune with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wn hearts in your be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be sil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fer right sacrific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put your tru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n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are many who s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“O that we m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ee some go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t up the light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ountenance upon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 Lord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put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joy in my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n they have w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ir grain and wine ab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12960"/>
            <a:ext cx="883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I will b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lie down and sleep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for you alon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make me li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in safety.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1:16Z</dcterms:modified>
  <cp:revision>21</cp:revision>
  <dc:subject/>
  <dc:title>PowerPoint Presentation</dc:title>
</cp:coreProperties>
</file>