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ACE-04E8-474A-BC5B-239D06AD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ABA-E566-4CEE-9B9D-73FCAB9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DF0-1ACF-448B-8699-97791056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5AE-E7B6-4CDC-AD4C-028915EB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F97-45E4-4808-91C0-F06D86D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D70-1C79-4AC8-9545-B37BBB0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DA2-845B-440B-AC5F-B268FA9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963-8741-4C4A-84A5-D3030133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CE3-E39C-4E84-BE12-91913CB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355-F834-4FE3-B0B4-E28BD27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796-F001-4003-B192-DFF8063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5DD-85FB-4735-9E7C-D42C3D9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EF44-4D75-4C05-9D1F-50AF8B8C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couns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ght in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and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tree tha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ted by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not be mo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42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o not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counsel of the wick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stand in the way of sinn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r sit in the seat of scoff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ir delight i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aw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God’s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y and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y are like tre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planted by streams of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ield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ruit in sea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ir leaves do not wi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ll that they d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prosper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are not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are like chaf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ind drive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526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the wicke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stand in the judgm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r sinners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ngreg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righteou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53960"/>
            <a:ext cx="8839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5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e Lord know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the way of the righteo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way of the wi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will perish.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3:58:33Z</dcterms:modified>
  <cp:revision>19</cp:revision>
  <dc:subject/>
  <dc:title>PowerPoint Presentation</dc:title>
</cp:coreProperties>
</file>