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D80-9EA4-4930-A270-568B31B6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7E55-9861-457C-9975-3C5050A2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48D-550B-41FF-9B5D-182682A3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E659-8B42-4C6B-AEB6-FBC3D1E6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B98-5698-4EE2-BC1E-7CF51F4C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35D-2E82-4F2C-AAB7-EFC4725A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EAA6-3DBF-4E44-A6B8-898EC588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B38-BF33-4B57-B5C0-3E2B5989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066-FD9C-4ACC-88FB-9710D6B5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AC7C-C69F-4071-81FB-8015EB76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90B-231E-4D03-AF35-26D045F6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B18-283C-4075-BB16-20E4612E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B94C-6ACA-4C01-BB7B-1E207B8D8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09680"/>
            <a:ext cx="9144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rve the Lord with fear;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humble before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Transfiguration and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2:11, 12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Now therefore, O kings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e wise; be warned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 rulers of the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erve the Lord with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fear and trembling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umble yourselves befo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est God be angry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you perish in the wa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for God’s wrath is quickl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kindl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258912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are all who tak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refuge in the Lord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438280"/>
            <a:ext cx="9144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know that m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Redeemer liv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Job 19:25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393840"/>
            <a:ext cx="883908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br>
              <a:rPr sz="5600"/>
            </a:b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do the nations conspi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the people plot in vain?</a:t>
            </a:r>
            <a:br>
              <a:rPr sz="4800"/>
            </a:b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kings of the earth rise 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the rulers take counsel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oge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gainst God and God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ointed, say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“Let us burst their bond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and cast their cords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from u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One who sits in th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avens laugh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holds them in derision.</a:t>
            </a:r>
            <a:br>
              <a:rPr sz="4800"/>
            </a:b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hen God will speak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em in ang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terrify them in fury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say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258912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“I have set my king o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Zion, my holy hill.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 will tell of the decre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Lord who said to me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“You are my son, tod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I have begotten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sk of me, and I will mak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 nations your heritag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 the ends of the earth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your possess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85724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You shall break them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 rod of iron, and dash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m in pieces like a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potter’s vessel.”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0:01Z</dcterms:modified>
  <cp:revision>21</cp:revision>
  <dc:subject/>
  <dc:title>PowerPoint Presentation</dc:title>
</cp:coreProperties>
</file>