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0FB48-290E-46A6-93E7-EA13A499B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4B31B-8772-49A7-B309-A195ACC80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637C7-BB5F-496D-824F-EEA92F8D5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65F6D-6822-44DA-9C4F-60D14238D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FC91A-C386-4C6C-895B-3B6BB6EFB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513E4-97AE-441D-8C07-700CCCB3B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A4B4E-A48D-4E04-990F-56152850F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C02EA-9AD7-459E-96BA-39BD0FB19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F9B90-3258-45DF-AA03-9324E7C96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B1B78-C839-4F90-9700-D1DB7851E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0A85F-F561-4878-A79C-3BA787482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08B66-4C3F-4BCE-BDAF-60DBA86CC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69E3B-276B-486A-843B-8C11D922FA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4572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Psalm 132:1-5, 11-1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066680"/>
            <a:ext cx="8915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ESPONSE </a:t>
            </a:r>
            <a:r>
              <a:rPr b="0" i="1" lang="en-US" sz="3600" spc="-1" strike="noStrike">
                <a:solidFill>
                  <a:srgbClr val="333399"/>
                </a:solidFill>
                <a:latin typeface="Times New Roman"/>
              </a:rPr>
              <a:t>(General)</a:t>
            </a:r>
            <a:r>
              <a:rPr b="0" i="1" lang="en-US" sz="36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en-US" sz="36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en-US" sz="36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en-US" sz="36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Harrell Be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04920" y="2209680"/>
            <a:ext cx="8534160" cy="355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sing of your promis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our faithfulness t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generations.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© 1989 The United Methodist Publishing Ho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salm 132:1-5, 11-18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sponse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66760" y="2208240"/>
            <a:ext cx="86104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ir sons also for ever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shall sit upon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your throne.”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66760" y="1919160"/>
            <a:ext cx="86104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13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or the Lord ha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hosen Zion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has desired it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or God’s habitation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266760" y="1919160"/>
            <a:ext cx="86104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14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“This is my resting plac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for ever;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here I will dwell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for I have desired it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66760" y="1919160"/>
            <a:ext cx="86104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15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 will abundantly bles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ts provisions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 will satisfy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ts poor with bread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266760" y="1919160"/>
            <a:ext cx="86104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16</a:t>
            </a: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ts priests I will cloth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ith salvation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its faithful will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shout for joy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66760" y="1919160"/>
            <a:ext cx="86104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17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re I will make a horn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o sprout for David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 have prepared a lamp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or my anointed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266760" y="1843200"/>
            <a:ext cx="86104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18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His enemies I will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clothe with shame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but his crown will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shine upon him.”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04920" y="1676520"/>
            <a:ext cx="8839080" cy="33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1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 Lord, in David’s favor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remember all the hardship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he endured;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66760" y="2284560"/>
            <a:ext cx="86104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2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how he swore to the Lor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vowed to th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Mighty One of Jacob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66760" y="2651040"/>
            <a:ext cx="8610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3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“I will not enter my house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or get into my bed;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66760" y="1919160"/>
            <a:ext cx="86104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4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 will not give sleep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o my eye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r slumber to my eyelids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266760" y="1843200"/>
            <a:ext cx="86104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5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until I find a plac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for the Lord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 dwelling place for th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Mighty One of Jacob.”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66760" y="1919160"/>
            <a:ext cx="86104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11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Lord swore to Davi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 sure oath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from it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ill not turn back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66760" y="2284560"/>
            <a:ext cx="86104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One of the son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of your body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 will set on your throne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66760" y="2284560"/>
            <a:ext cx="86104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12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f your sons keep my covenant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my testimonie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ich I shall teach them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3T14:00:19Z</dcterms:created>
  <dc:creator>First Baptist Church </dc:creator>
  <dc:description/>
  <dc:language>en-US</dc:language>
  <cp:lastModifiedBy>student</cp:lastModifiedBy>
  <dcterms:modified xsi:type="dcterms:W3CDTF">2001-10-31T16:59:27Z</dcterms:modified>
  <cp:revision>37</cp:revision>
  <dc:subject/>
  <dc:title>Psalm</dc:title>
</cp:coreProperties>
</file>