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6E2-5D6D-4969-9FFD-F93369D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AC3-648F-46C3-8288-AB51C520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598-B125-41D1-B9C9-F92E31B7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5CC-513F-4514-BDE3-D1292B03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857-B47E-43FC-90FD-866262E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99B-804C-414F-B6C2-C20D766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299-E8FD-4D0E-9912-7D72C01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081-5566-4C07-B210-648CFFDF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8AF-08D5-400B-92C8-DF00D264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B15-225F-4987-A53F-CD8F743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9FB-9BE2-43BD-896F-E541960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D6E-0E90-49A9-B3B5-754F820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365-925C-4BA5-89F0-BBBCB4DF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k. 6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are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eir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bowed down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o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at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the sojourne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pholds the wi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orpha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brings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 to ru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6207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reign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d, O Zion,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tion to gener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my sou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praises to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le I have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not your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inc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ortals, i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breath dep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return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at very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plans per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are those whose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 God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hope is in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Go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a, and all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m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faith for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xecutes just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oppress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ives f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ung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8288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soners fre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p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yes of the bl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21Z</dcterms:modified>
  <cp:revision>65</cp:revision>
  <dc:subject/>
  <dc:title>Psalm</dc:title>
</cp:coreProperties>
</file>