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is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seate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vine counci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midst of th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s holds judg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How long will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ge unjust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partial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wick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justice to the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orpha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intain the r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affli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destitu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cue the wea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need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them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 of the wicke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neither knowle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understand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alk about in darkn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foundation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 are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aid, “You are go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like offspr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of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vertheless you sh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e like morta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all like any prin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is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ge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o you be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nations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03Z</dcterms:modified>
  <cp:revision>147</cp:revision>
  <dc:subject/>
  <dc:title>PowerPoint Presentation</dc:title>
</cp:coreProperties>
</file>