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60C-D661-4673-AE5B-82B7A3A2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9AA-1660-4535-BA69-8E29CB7D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A25B-0FCA-43A9-857E-4968DF12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1745-60FF-48F9-9E0C-B65926DF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E1D-A5A5-497C-BE5F-7E64E554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05F-5530-45C9-A22B-73A6EB9C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CF0-EDBF-44BD-BB46-DA15E437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8B00-9326-4EE5-9993-B3ED2F64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4A2-F84B-4464-A662-BCD65810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275-BAF5-46D5-9777-E86423D8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CF5A-AD18-4EDF-8D9B-FF07FB10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E6F-0D76-445E-8FF0-224FA48A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371B-95A8-4F5F-A320-9411E52C7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Evening Prayer, General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ph. 6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5909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trong in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the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might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will keep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all evi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ill keep your lif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6760" y="147636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will kee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going ou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coming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is time fo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or evermore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63: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28600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had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ing for joy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3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(Funerals, Memorial Services)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is. of Sol. 5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3623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ighteous love for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rewar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Lord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91440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lift up my ey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hill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whence do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help co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help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made heav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ear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Lord will not le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foot be mov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who keeps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not slumb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hold, the 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keeps Israe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ll neither slumb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r slee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210168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your keeper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your sha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your right ha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210168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un shall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mite you by da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r the moon by ni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7:49Z</dcterms:modified>
  <cp:revision>22</cp:revision>
  <dc:subject/>
  <dc:title>Psalm</dc:title>
</cp:coreProperties>
</file>