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A747-25FF-47ED-9D1A-F8E9B352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4FA9-796B-48B0-999A-DC02F26E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3351-7ECD-44B4-B292-D5B49908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842E-40AD-4798-9A40-0783CBA2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0FCB-01DA-4E44-926F-4901F49C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3E0D-EE4C-42E9-A37B-C6901CCF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5D00-5EC1-439D-9FBA-5EC23F77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1172-8B74-403A-A9C8-89B200AA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DFFD-47AB-4CF0-A62C-0A561BAF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2344-47CE-4E82-8928-C7506EA0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B142-533E-4AFB-9AF1-2CFD82E5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53C2-C1FE-44DE-B63F-A7F75957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21DE-F77B-4F16-A8D2-D5EED12DD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39: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362320"/>
            <a:ext cx="8534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rch me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now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y m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 my thoughts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3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f I take the wing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morn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dwell in the uttermo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rts of the se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en there your h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lead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right h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hold 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22845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I say, “Let on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arkness cover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light about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night,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111132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en the dark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not dark to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ight is br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the da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darkness 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light with you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760" y="191916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it was you who form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inward parts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knit me togeth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my mother’s womb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66760" y="1552680"/>
            <a:ext cx="861048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praise you, for you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earful and wonderfu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nderful are your work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know me very well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66760" y="11872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frame was 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dden from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I was be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de in secre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ricately wrought i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pths of the eart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66760" y="638280"/>
            <a:ext cx="86104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eyes behe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unformed substance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your book were writt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days that were form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ery day, before the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me into be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profound to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your thoughts, O Go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vast is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m of them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f I would count them, they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more than the san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I awak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am still with you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165888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you have searched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known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that you would sl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icked, O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at the bloodthirs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uld depart from m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se who malicious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fy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lift themselves u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gainst you for evi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I not hate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hate you, O Lord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do I not loathe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rise up against you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hate them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erfect hatr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count them my enemi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arch me, O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know my heart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y me and kn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thoughts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ee if there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y wicked way in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lead me i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y everlasting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know when I sit dow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hen I rise up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discern my though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af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1735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searched out my p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y lying dow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re acquain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all my way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en before a w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on my tongue, O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know it altoget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pursue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hind and befor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ay your hand upon 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ch knowledge is to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nderful for 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hig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cannot attain it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ther shall I g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your spir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 whither shall I fle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your presenc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I ascend to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there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I make my bed in Sheo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ther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7:01:30Z</dcterms:modified>
  <cp:revision>54</cp:revision>
  <dc:subject/>
  <dc:title>Psalm</dc:title>
</cp:coreProperties>
</file>