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81:1-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8954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ith joy to G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to God our help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81:1-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1295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81: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am the Lord your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brought you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t of the land of Egyp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pen wide your mou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 will fill it.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67472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aloud to God our streng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out for joy to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Jacob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ise a so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und the tambouri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weet ly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 har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ow the trumpe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the new mo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the full mo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our feast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74448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it is a statute for Israe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ordinance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Jacob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made 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decree in Josep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God went out ov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and of Egypt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ear a voice I do not know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I relieved your shoul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burd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hands were fre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bask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distress you call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delivered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nswered you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cret place of thunde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tested you at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ters of Meriba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, O my peopl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le I admonish you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Israel, if you wou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listen to 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shall be no stran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among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hall not bow dow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 foreign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1:51Z</dcterms:modified>
  <cp:revision>145</cp:revision>
  <dc:subject/>
  <dc:title>PowerPoint Presentation</dc:title>
</cp:coreProperties>
</file>