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21E-4E9C-4DA2-A395-744730F5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5A0-1084-4EBD-94C4-980A7E14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F9F-F6D4-4B9A-8767-A0AD6C64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9DF-893C-4174-9E1D-9DB9FF18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5621-1D71-43D2-BC07-ABA0B6E0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343-B0B7-46F2-921F-6507DC8C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E27-A72F-49CA-9CD2-596D6CE7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4D7-5D63-4002-94A6-9620B749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B4C-DE97-4BA7-9091-AA4275CA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C93-7CD9-4497-B755-0DA8C8E8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D17-59E2-4446-9CEB-BBD4B5DB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9BB-A430-4725-9FA2-2039C686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8D5B-BC86-440B-B98B-18FA1FE6B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43:1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lan Luff  (Exek. 37:1-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514600"/>
            <a:ext cx="853416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ope is lo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life upon m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3:1-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91440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morning let me h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n you I put my trus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ach me the way I should go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o you I lift up my soul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iver me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my enem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have fled to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reveng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ach me to do your wi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are my Go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good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ad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a level path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46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5909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my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ngth of my lif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3:1-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92700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my prayer, O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faithful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ear to my supplication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swer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ter not into judgme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your servan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no one l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righteous before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enemies have pursued m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have crushed my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grou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have made me s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dark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those long de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fore m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ints within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eart within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appalle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remember the days of 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meditate on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you have don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muse on w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nds have wrou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18288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tretch out 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nds to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oul thirsts for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a parched l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83808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haste to answer m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pirit fai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de not your face from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st I be like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go down to the p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1:45Z</dcterms:modified>
  <cp:revision>66</cp:revision>
  <dc:subject/>
  <dc:title>Psalm</dc:title>
</cp:coreProperties>
</file>