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27A9-906A-4905-8034-1861C447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FEB7-65EE-48A8-9A5B-FB4BC3B2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E6EE-EDE3-4499-AF94-43FA4229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D112-F9AD-42F8-8541-D81C80BE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4B2D-BC12-4C95-83F2-94F9D01B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C671-8AAF-4D5F-A94D-2C5A544E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611D-7B66-4428-97AF-9E660791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FFC7-1046-4DE2-B930-0C57D982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F3AB-FC8E-46C5-95C6-9C263FD1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CAAA-CA7B-4D1C-BC0C-0726237A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6621-18DF-4798-A365-E88EC0AC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E2C9-4EB8-4D31-A221-E126B0FB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48A8-AD6F-4E0F-BF22-5AD62A25E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Morning Prayer, 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Francis of Assisi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             trans. by William H. Dr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438280"/>
            <a:ext cx="8534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creator bles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4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26510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untains and all hill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uit trees and all cedar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asts and all cattl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reeping thing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lying bird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ings of the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ll peopl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inces and all rule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earth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ng m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aidens toge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ld men and childre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m praise the 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se name alone is exalt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se glory is ab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arth and heav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66760" y="744480"/>
            <a:ext cx="86104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has raised up a hor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his peopl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for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faithful on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people of Israel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near their Go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60948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heave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height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his angel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his host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n and mo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shining star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ghest heave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l wate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bove the heavens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m praise the 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command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y were create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established the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ever and ev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ixed their boun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ich cannot be pass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ea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a monste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ll deeps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re and hai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now and smok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ormy winds fulfill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’s command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7:03:18Z</dcterms:modified>
  <cp:revision>74</cp:revision>
  <dc:subject/>
  <dc:title>Psalm</dc:title>
</cp:coreProperties>
</file>