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E39-1DF5-47BE-BA8E-A3B8A2E7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865-BDB5-4855-A3E1-E8D67979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FF4-CA9D-473A-A3A3-F2730A98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744-6F18-40D1-AF18-58995B2B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31B-D172-492A-8A47-2993A2C7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2F0-534B-465D-A8AE-C98B0099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1EA-4A02-4048-BFBD-D8AEB0DF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1D1-976C-4897-A3CA-05D5825E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1D1-AEA0-4811-B0FB-6D847D57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00D-48C8-416A-90B7-9419942C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213-CC72-4944-8563-A261323E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6AD-B6D4-4D8D-A130-C3532793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FF11-7ECA-464D-A773-A8FD2DD18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:11-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t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op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 d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:11-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9: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735200"/>
            <a:ext cx="883908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them in fear, O Lor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nations k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at they are mortal!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06668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praises 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ho dwells in Z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among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peoples God’s deed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ho avenges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s mindful of th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oes not forg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cry of the afflic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gracious to me, O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ee what I suffer from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ho hate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the One who lifts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up from the gates of dea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1132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hat I may recou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ll your prais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, in the gate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daughter of Zion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rejoice in your deliverance.   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nations have sun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the pit which they mad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own foot has be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aught in the n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ich they h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ade known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Lord has execu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judgm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icked are snared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work of their own h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icked shall dep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 Sheol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ll the nations that forget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For the needy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ot always be forgott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the hope of the po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shall not perish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ise, O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et not mortals prevai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nations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judged before yo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3:08Z</dcterms:modified>
  <cp:revision>26</cp:revision>
  <dc:subject/>
  <dc:title>PowerPoint Presentation</dc:title>
</cp:coreProperties>
</file>