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1C3-D484-4812-9CE0-5C73AEDF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F78-15B5-4AF2-B1C3-F89C3C18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EC9-293D-4570-9E75-D19E42EE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DFE-BF23-49D2-BD53-88A6C0DC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25B-0B62-4C12-83F0-7EAA2FC7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941-EB0A-440A-AF0E-DB295085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B5F-B5C7-4C46-9D26-53AAD97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A36-F5CC-495C-B77D-72316EF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AE3-53EC-4455-BDDE-CF2676B3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CD5-A8C5-4563-90D3-9889E98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4C7-19C1-4860-9DB8-2987240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8E7-9828-48B8-877D-509364F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F3FC-BA88-45A7-9187-5A3DAA7BD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0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 1 © 1963 The Grail, by permission of G.I.A. Publication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Christ the King, General)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3: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362320"/>
            <a:ext cx="9144000" cy="34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it abundantly.</a:t>
            </a:r>
            <a:br>
              <a:rPr sz="5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905120"/>
            <a:ext cx="120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n. 10: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, Funerals, Memorial Servic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25360"/>
            <a:ext cx="883908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hall not w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makes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e down in green pastur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s me beside still wat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ores my lif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s me in right pat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’s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hough I wal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darkest valle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ear no ev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you are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od and your staf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omfor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pare a table befor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enemi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noint my head with o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up overflo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42840"/>
            <a:ext cx="88390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ly goodness and merc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follow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ays of my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shall dwe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house of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long as I liv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7:18Z</dcterms:modified>
  <cp:revision>45</cp:revision>
  <dc:subject/>
  <dc:title>PowerPoint Presentation</dc:title>
</cp:coreProperties>
</file>