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01F-D3D6-4486-81A7-26DE4BA8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BA3-0AC8-4A55-B98F-7B11E3DA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E57-67A5-494F-892D-DEE2CD90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4E8-4CB3-4751-BACE-82775730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D69-187E-4541-B722-24FB487F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E2F-0D00-49B7-9993-D3CDDE98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BE3-8C05-4581-BC9B-9812823E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48F-5D2C-4D58-B2E0-414B8426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BC2-898B-46D4-9F40-38E0E81F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945-BB8C-4CFA-BB62-E9D79FA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B51-0C97-4553-BFDB-54C39D7D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880-C0A5-421D-BF9D-B722D14C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6256-8A58-4C4F-B7D5-58C753208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1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Advent &amp; General)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k. 6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362320"/>
            <a:ext cx="853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are the p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e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’s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is their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14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lifts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are bowed down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lo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righteo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760" y="100332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atch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ver the sojourner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upholds the wid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orpha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Lord brings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wicked to ru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62072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will reign for e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God, O Zion,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ation to gener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202572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ise the Lord, O my sou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praise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long as I liv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ing praises to my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le I have be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not your tr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princ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ortals, in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hel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breath depar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return to the eart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at very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plans peris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ppy are those whose hel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the God of Jacob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hope is in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Go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ade heaven and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a, and all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them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keeps faith forever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executes just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oppress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gives fo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hungr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8288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se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isoners fre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6560"/>
                <a:tab algn="l" pos="91440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ope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yes of the bli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31T17:02:21Z</dcterms:modified>
  <cp:revision>65</cp:revision>
  <dc:subject/>
  <dc:title>Psalm</dc:title>
</cp:coreProperties>
</file>