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fffff"/>
            </a:gs>
            <a:gs pos="100000">
              <a:srgbClr val="ffcc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457200" y="457200"/>
            <a:ext cx="868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3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salm 95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Text Box 5"/>
          <p:cNvSpPr/>
          <p:nvPr/>
        </p:nvSpPr>
        <p:spPr>
          <a:xfrm>
            <a:off x="0" y="2895480"/>
            <a:ext cx="9144000" cy="161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rden not your heart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sten to God’s voice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95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Rectangle 8"/>
          <p:cNvSpPr/>
          <p:nvPr/>
        </p:nvSpPr>
        <p:spPr>
          <a:xfrm>
            <a:off x="0" y="9144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Lent)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Ps. 95:8</a:t>
            </a:r>
            <a:r>
              <a:rPr b="0" i="1" lang="en-US" sz="2200" spc="-1" strike="noStrike">
                <a:solidFill>
                  <a:srgbClr val="333399"/>
                </a:solidFill>
                <a:latin typeface="Times New Roman"/>
              </a:rPr>
              <a:t>a,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 7</a:t>
            </a:r>
            <a:r>
              <a:rPr b="0" i="1" lang="en-US" sz="2200" spc="-1" strike="noStrike">
                <a:solidFill>
                  <a:srgbClr val="333399"/>
                </a:solidFill>
                <a:latin typeface="Times New Roman"/>
              </a:rPr>
              <a:t>c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304920" y="1066680"/>
            <a:ext cx="883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ar the voice of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ord today!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8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arden not your heart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 at Meribah,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 on the day at Massa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 wilderness,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9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en your forebears tested m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put me to the proof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ough they ha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een my work.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304920" y="1187280"/>
            <a:ext cx="883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0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forty year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loathed that generatio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said, “They are a peopl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err in hear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they do no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egard my ways.”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304920" y="184320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1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refore I swor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my ange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t they should no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nter my rest.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salm 95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0" y="2286000"/>
            <a:ext cx="9144000" cy="186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Harden not your hearts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listen to God’s voice.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95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0" y="9144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Lent)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Ps. 95:8</a:t>
            </a:r>
            <a:r>
              <a:rPr b="0" i="1" lang="en-US" sz="2200" spc="-1" strike="noStrike">
                <a:solidFill>
                  <a:srgbClr val="333399"/>
                </a:solidFill>
                <a:latin typeface="Times New Roman"/>
              </a:rPr>
              <a:t>a,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 7</a:t>
            </a:r>
            <a:r>
              <a:rPr b="0" i="1" lang="en-US" sz="2200" spc="-1" strike="noStrike">
                <a:solidFill>
                  <a:srgbClr val="333399"/>
                </a:solidFill>
                <a:latin typeface="Times New Roman"/>
              </a:rPr>
              <a:t>c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304920" y="457200"/>
            <a:ext cx="8839080" cy="37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401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Times New Roman"/>
              </a:rPr>
              <a:t>Leader: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come, let us sing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the Lord;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0" y="457200"/>
            <a:ext cx="9144000" cy="40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626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664d"/>
                </a:solidFill>
                <a:latin typeface="Times New Roman"/>
              </a:rPr>
              <a:t>People: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626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let us make a joyful nois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o the rock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f our salvation!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152280" y="762120"/>
            <a:ext cx="883944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Times New Roman"/>
              </a:rPr>
              <a:t>Leader: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us come into God’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resence wi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anksgiving;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76320" y="152280"/>
            <a:ext cx="906768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664d"/>
                </a:solidFill>
                <a:latin typeface="Times New Roman"/>
              </a:rPr>
              <a:t>People: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let us make a joyful  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noise with songs of praise!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0" y="76320"/>
            <a:ext cx="9144000" cy="46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Times New Roman"/>
              </a:rPr>
              <a:t>Leader: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the Lord is a great God, and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 great Ruler above all gods,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whose hands are the depths of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earth and also the heights of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mountains.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0" y="2133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the peop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the shee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urtured and l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God’s hand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95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0" y="762120"/>
            <a:ext cx="9144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2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Christ the King, General)   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S T Kimbrough, Jr. 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    (Ps. 95:7</a:t>
            </a:r>
            <a:r>
              <a:rPr b="0" i="1" lang="en-US" sz="2200" spc="-1" strike="noStrike">
                <a:solidFill>
                  <a:srgbClr val="333399"/>
                </a:solidFill>
                <a:latin typeface="Times New Roman"/>
              </a:rPr>
              <a:t>b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0" y="76320"/>
            <a:ext cx="9144000" cy="49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664d"/>
                </a:solidFill>
                <a:latin typeface="Times New Roman"/>
              </a:rPr>
              <a:t>People: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e sea belongs to God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ho made it, and the 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dry land, because God 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formed it.   </a:t>
            </a:r>
            <a:r>
              <a:rPr b="1" lang="en-US" sz="5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3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salm 95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0" y="2286000"/>
            <a:ext cx="9144000" cy="186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Harden not your hearts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listen to God’s voice.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95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8"/>
          <p:cNvSpPr/>
          <p:nvPr/>
        </p:nvSpPr>
        <p:spPr>
          <a:xfrm>
            <a:off x="0" y="9144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Lent)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Ps. 95:8</a:t>
            </a:r>
            <a:r>
              <a:rPr b="0" i="1" lang="en-US" sz="2200" spc="-1" strike="noStrike">
                <a:solidFill>
                  <a:srgbClr val="333399"/>
                </a:solidFill>
                <a:latin typeface="Times New Roman"/>
              </a:rPr>
              <a:t>a,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 7</a:t>
            </a:r>
            <a:r>
              <a:rPr b="0" i="1" lang="en-US" sz="2200" spc="-1" strike="noStrike">
                <a:solidFill>
                  <a:srgbClr val="333399"/>
                </a:solidFill>
                <a:latin typeface="Times New Roman"/>
              </a:rPr>
              <a:t>c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380880" y="1055520"/>
            <a:ext cx="845820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Times New Roman"/>
              </a:rPr>
              <a:t>Leader: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come, let us worship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bow down,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152280" y="762120"/>
            <a:ext cx="8839440" cy="32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626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664d"/>
                </a:solidFill>
                <a:latin typeface="Times New Roman"/>
              </a:rPr>
              <a:t>People: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626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let us kneel before th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Lord, our Maker!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2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304920" y="1735200"/>
            <a:ext cx="88390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Times New Roman"/>
              </a:rPr>
              <a:t>Leader: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7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the Lord is our God,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76320" y="380880"/>
            <a:ext cx="8839080" cy="49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626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664d"/>
                </a:solidFill>
                <a:latin typeface="Times New Roman"/>
              </a:rPr>
              <a:t>People: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626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e are the peopl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f God’s pasture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e sheep of God’s hand.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76320" y="189000"/>
            <a:ext cx="88390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Times New Roman"/>
              </a:rPr>
              <a:t>Leader: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ar the voice of the Lord today!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8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arden not your heart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 at Meribah, as on the day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t Massah in the wilderness,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152280" y="914400"/>
            <a:ext cx="8839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9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en your forebears tested m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put me to the proof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ough they ha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een my work.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0" y="76320"/>
            <a:ext cx="9144000" cy="45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664d"/>
                </a:solidFill>
                <a:latin typeface="Times New Roman"/>
              </a:rPr>
              <a:t>People: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 baseline="30000">
                <a:solidFill>
                  <a:srgbClr val="333399"/>
                </a:solidFill>
                <a:latin typeface="Times New Roman"/>
              </a:rPr>
              <a:t>10</a:t>
            </a: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For forty years I loathed that generation and said, “They are a people who err in heart, and they do not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0" y="685800"/>
            <a:ext cx="914400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regard my ways.”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 baseline="30000">
                <a:solidFill>
                  <a:srgbClr val="333399"/>
                </a:solidFill>
                <a:latin typeface="Times New Roman"/>
              </a:rPr>
              <a:t>11</a:t>
            </a: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erefore I swore in my 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nger that they should 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not enter my rest. 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304920" y="758880"/>
            <a:ext cx="8839080" cy="52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come, let us sing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the Lord;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et us make a joyful nois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the rock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our salvation!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3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salm 95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0" y="2286000"/>
            <a:ext cx="9144000" cy="186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Harden not your hearts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listen to God’s voice.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95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0" y="9144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Lent)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Ps. 95:8</a:t>
            </a:r>
            <a:r>
              <a:rPr b="0" i="1" lang="en-US" sz="2200" spc="-1" strike="noStrike">
                <a:solidFill>
                  <a:srgbClr val="333399"/>
                </a:solidFill>
                <a:latin typeface="Times New Roman"/>
              </a:rPr>
              <a:t>a,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 7</a:t>
            </a:r>
            <a:r>
              <a:rPr b="0" i="1" lang="en-US" sz="2200" spc="-1" strike="noStrike">
                <a:solidFill>
                  <a:srgbClr val="333399"/>
                </a:solidFill>
                <a:latin typeface="Times New Roman"/>
              </a:rPr>
              <a:t>c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304920" y="1370160"/>
            <a:ext cx="88390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us come into God’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resence wi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anksgiving;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et us make a joyful nois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ith songs of praise!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304920" y="2284560"/>
            <a:ext cx="8839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the Lord is a great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a great Rul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bove all gods,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whose hands are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epths of the ear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also the height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the mountains.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304920" y="184320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sea belongs to Go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made i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the dry lan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ecause God formed it.  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304920" y="1735200"/>
            <a:ext cx="88390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come, let us worship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bow down,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et us kneel before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ord, our Maker!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304920" y="1735200"/>
            <a:ext cx="88390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7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the Lord is our God,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are the peopl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God’s pastur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sheep of God’s hand.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dan mccay</cp:lastModifiedBy>
  <dcterms:modified xsi:type="dcterms:W3CDTF">2012-03-10T14:48:11Z</dcterms:modified>
  <cp:revision>175</cp:revision>
  <dc:subject/>
  <dc:title>PowerPoint Presentation</dc:title>
</cp:coreProperties>
</file>