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1:1-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ighty for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ulwark never fai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1:1-1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718240" y="1600200"/>
            <a:ext cx="34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Martin Lu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rans. by Frederick H. H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922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Passion/Palm Sunday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not delivered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o the hand of my enem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set my fe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 broad plac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gracious to 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am in distre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eye is wasted from grie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and body als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my life is spe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orro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years with sigh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trength fail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of my mise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bones waste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the sc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all my adversari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horror to my neighbo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 object of dre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y acquaintanc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se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treet flee from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passed out of mi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one who is dea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become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oken vess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hea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spering of many–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rror all around!–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y scheme toge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ainst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y plot to take my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I trust in you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ay, “You are my Go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times are in your h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iver me from the h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my enem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ersecuto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face shi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your serva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ve me throug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steadfast love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eator ble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1:1-1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sponse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Francis of Assi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rans. by William H. Dra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942840"/>
            <a:ext cx="883908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, O Lord, I seek refug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ne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put to sham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righteous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iver 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line your ear to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cue me speedily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a rock of refuge for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strong fortress to save 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indeed my ro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fortre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r name’s sak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 me and guide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me out of the n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is hidden for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my refu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your h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mmit my spiri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redeemed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faithful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te those who p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gard to vain idol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I trust in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rejoice and be gl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you have se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afflic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ve taken he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my adversit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9:16Z</dcterms:modified>
  <cp:revision>61</cp:revision>
  <dc:subject/>
  <dc:title>PowerPoint Presentation</dc:title>
</cp:coreProperties>
</file>