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991A-618C-41EB-AD35-A75F73829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B3F4-08F9-474D-A903-C5DAF725A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123B-98AF-44DD-AD63-CC9D5C39B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0BFA-BE7A-4015-B8B4-C459F18F3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C248-773E-4EC3-B584-00F71631C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A45C-AF84-46FA-A38E-8E79791C7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9C03-73E3-4453-9F30-D06BDA079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93E2-FCD6-470C-A0F1-88EB87A11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C8B3-BB0E-431C-87EC-262ADF6E2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D199-B2A5-4307-8734-57DC82C2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0A50-07C0-4CC7-B2DB-FA7BBC6F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3B09-2C85-4C21-A998-510DC7C9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4E462-EAD2-44C7-ACC7-59422E803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514600"/>
            <a:ext cx="9144000" cy="161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still, my soul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is on thy s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22320"/>
            <a:ext cx="9144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esponse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General)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Katharina von Schleg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trans. by Jane Borthwi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762120"/>
            <a:ext cx="8839080" cy="44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w long, O Lord?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Will you forget me for ever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w long will you hid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your face from m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942840"/>
            <a:ext cx="8839080" cy="48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w long must I bear pai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in my soul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and have sorrow in my hear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all the da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w long shall my enem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be exalted over me?  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37016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nsider and answer 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O Lord my God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ighten my eye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lest I sleep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sleep of death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370160"/>
            <a:ext cx="8839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st my enemy sa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“I have prevailed over him”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st my foes rejoic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because I am shak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735200"/>
            <a:ext cx="8839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ut I trusted in you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steadfast lov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heart shall rejoic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in your salva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2039760"/>
            <a:ext cx="8839080" cy="26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6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will sing to the Lor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the Lord has deal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bountifully with me.  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4:04:28Z</dcterms:modified>
  <cp:revision>30</cp:revision>
  <dc:subject/>
  <dc:title>PowerPoint Presentation</dc:title>
</cp:coreProperties>
</file>