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D8D-6C9F-4F15-8AB2-7C7F8C6A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030-986F-4A4C-9E8F-A9DB32B8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5C9-DDA8-4CF1-9869-C61B52C4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1D9-ABCC-44CF-BEFE-65A18391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8AD-7A1A-4F7B-9E13-8193449B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39D-691D-4988-99E8-57F51F6B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9D9-D90B-4B4D-A20C-E0D998C8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659-C0BD-43F4-B105-B7B1F43B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BC3-BF67-45DA-8F00-EEB62EB8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246-576A-4ED2-8FDF-D03DF67B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016-45C2-484C-89D5-9EA5AB00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DB7-24B9-47F6-ACA9-8E75DBA4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0EEC-8979-40BD-A7E7-371F13057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counse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ght in the la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and 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:1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b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2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tree tha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nted by the wa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not be mov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38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: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942840"/>
            <a:ext cx="883908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ar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who do not walk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counsel of the wicke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stand in the way of sinn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r sit in the seat of scoffer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their delight is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law of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n God’s l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y medit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day and n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576360"/>
            <a:ext cx="8839080" cy="55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y are like tre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planted by streams of wat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at yield thei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fruit in sea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their leaves do not wi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all that they do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y prosper.  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icked are not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ut are like chaff whi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wind drives aw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1552680"/>
            <a:ext cx="8839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refore the wicked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not stand in the judgmen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nor sinners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congreg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f the righteous;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353960"/>
            <a:ext cx="8839080" cy="34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5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for the Lord know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the way of the righteo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way of the wick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will perish.    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3:58:33Z</dcterms:modified>
  <cp:revision>19</cp:revision>
  <dc:subject/>
  <dc:title>PowerPoint Presentation</dc:title>
</cp:coreProperties>
</file>