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ee it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s. 40: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thfulness will mee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ness and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kiss each 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thfulness will spring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grou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ighteousness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ok down from the sk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go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l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ield its incre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eousness will g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ke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otsteps a wa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082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you showed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l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restored the fortun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Jaco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forgave the iniqu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peop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pardoned all their s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ithdrew all your wra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turned from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t ang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 us ag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 of our salv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ut away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dignation toward u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be ang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us forever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prolong your ang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genera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ot revive us ag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your people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e in yo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ant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salvation.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God will spea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will sp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ace to his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is faithf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ose who t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in thei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salvation is at h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ea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glory may dwe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our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2:23Z</dcterms:modified>
  <cp:revision>151</cp:revision>
  <dc:subject/>
  <dc:title>PowerPoint Presentation</dc:title>
</cp:coreProperties>
</file>