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49D-8182-4836-BD15-B3AF6906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80E-AC5C-4DA5-99EE-67CBEE1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716-3A41-4248-A7ED-AE4FDAD0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614-3018-401E-8A4B-65F3E850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0B4-B91F-425A-98F1-88107BA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456-AD45-45DB-8973-7BBFCB6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252-1405-4E81-9343-494F130D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7D2-8BB1-4938-A2ED-02A674D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D20-AA81-4009-9D66-8A4EB8E8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B5D-6C86-4829-9057-7B780F3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590-772D-425C-A325-96874FD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C4E-4F93-4556-9C28-1EF8EADF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F775-6308-443F-A9BE-B3DDBD05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5:1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ltz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5909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5:1-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n your mid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Egy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d signs and wond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Pharaoh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servan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truck many n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lew many kings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hon, king of the Amorit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g, king of Bash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e kingdo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anaa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ve their l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a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heritage to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renown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out all ag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will vindic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ave compa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his serva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pra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servants of the Lord,</a:t>
            </a: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that stand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court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our God!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o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’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gracio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has chos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as God’s 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as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wn possess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ea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our Lord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all go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ever the Lord plea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d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eaven and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as and all dee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the Lord who mak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rise a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s lightn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s wind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ehouse of G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was the Lord who stru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-born of Egy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imal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23Z</dcterms:modified>
  <cp:revision>43</cp:revision>
  <dc:subject/>
  <dc:title>Psalm</dc:title>
</cp:coreProperties>
</file>