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BA3-4DA9-49A5-A5AF-56549E59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B32-9DD1-42AC-8283-EA14AF39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EA9-F1D9-4C2B-BE55-ADF5E39C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12A-6C8D-47E2-A247-84F29E87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6DB-E2DF-42AF-8FC9-17F89642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968-1439-426B-AAB9-9F9148A2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829-823A-4F5B-82F2-1D7F7961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3A67-8BC8-4EEA-ADBE-ED709F42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6C7-B0EF-4294-B359-885B2C12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A55-3354-4B8D-9CD4-EFBB28E2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5A3-E329-45A6-A1A8-253C7388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AE2-23B8-41A4-94AA-7240952E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E786-8233-4C11-BC6A-73E9D0A8B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18:14-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Passion/Palm Sunday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8: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04920" y="213372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is the one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in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anna in the high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8:14-2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66760" y="22845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thank you that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answered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ave become 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lv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tone which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ilders reject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 become the cornerston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his is the Lord’s doing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marvelous in our ey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ch the Lord has mad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us rejoice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glad in it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ve us, we beseech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we beseech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us succes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is the one who com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the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bless you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use of 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66760" y="137016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7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given us l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ad the festal process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branch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 to the horns of the alta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You are m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and I will give thanks to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m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extol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give thanks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is goo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God’s steadfast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dures for ever!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18:14-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Passion/Palm Sunday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8: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0" y="13716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lessed is the one wh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mes in the n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sanna in the highest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8:14-2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0" y="685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8: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4920" y="2590920"/>
            <a:ext cx="853416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has ma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, let us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 and be glad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75 G.I.A. Publication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8:14-2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2743200" y="1981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5715000" y="1981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0" y="76320"/>
            <a:ext cx="91440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Lord is my strength and my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power; the Lord has becom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y salv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152280"/>
            <a:ext cx="91440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re are joyous song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victory in the tents of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righteous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66760" y="26496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right hand of the Lor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es valiantly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right hand of the Lor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s exalte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14480" y="533520"/>
            <a:ext cx="8877240" cy="32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right hand of the Lord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oes valiantly!”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04920" y="34128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I shall not die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ut I shall live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recount the deed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Lord has chasten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e sorely,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ut has not given 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ver to death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28600" y="7632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Open to me the gate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f righteousness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t I may enter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rough them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give thanks to 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is is the gate of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the righteous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hall enter through it.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18:14-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Passion/Palm Sunday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8: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0" y="13716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lessed is the one wh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mes in the n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sanna in the highest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8:14-2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28600" y="30492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I thank you that you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have answered m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have become 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alv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04920" y="106668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my streng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powe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has beco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alv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stone which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uilders rejected ha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has become the  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rnerstone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99072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23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This is the Lord’s doing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t is marvelous in our ey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baseline="30000">
                <a:solidFill>
                  <a:srgbClr val="333399"/>
                </a:solidFill>
                <a:latin typeface="Times New Roman"/>
              </a:rPr>
              <a:t>24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is is the day whic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Lord has mad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us rejoice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e glad in it.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18:14-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Passion/Palm Sunday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8: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0" y="13716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lessed is the one wh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mes in the n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sanna in the highest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8:14-2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15228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25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Save us, we beseech you, O Lord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Lord, we beseech you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ive us success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480" y="685800"/>
            <a:ext cx="88772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26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lessed is the one who come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685800"/>
            <a:ext cx="8877240" cy="32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 bless you fro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house of the Lord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66760" y="137016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27</a:t>
            </a: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Lord is God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who has given us l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ad the festal processio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branche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up to the horns of the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tar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14480" y="228600"/>
            <a:ext cx="887724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28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You are my God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and I will give thanks to you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ou are my God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 will extol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 are joyous so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vict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tents of the righteou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2844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baseline="30000">
                <a:solidFill>
                  <a:srgbClr val="333399"/>
                </a:solidFill>
                <a:latin typeface="Times New Roman"/>
              </a:rPr>
              <a:t>29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give thanks to the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who is goo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God’s steadfast lo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ndures for ever!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18:14-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Passion/Palm Sunday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8: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0" y="13716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lessed is the one wh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mes in the n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sanna in the highest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8:14-2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66760" y="100332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ight hand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es valiantl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ight hand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exalte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right hand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es valiantly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I shall not di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I shall li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recount the dee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has chasten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 sorel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has not given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ver to dea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pen to me the ga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righteousn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I may ent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ive thanks to 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g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righteous sh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ter through it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dan mccay</cp:lastModifiedBy>
  <dcterms:modified xsi:type="dcterms:W3CDTF">2012-03-31T19:30:10Z</dcterms:modified>
  <cp:revision>10</cp:revision>
  <dc:subject/>
  <dc:title>Psalm</dc:title>
</cp:coreProperties>
</file>