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ing may tar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morning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0:5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c,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the dust praise you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it tell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faithfulne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e gracious to me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be my helper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turn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mourning into danci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loo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ackclo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rded me with glad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2938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my soul may praise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t be sil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give than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 forev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extol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have lifted me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id not le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foes rejoice ove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 my God, I cr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 for hel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 healed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29384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you brought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from Sheo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d me to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mong those g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wn to the pi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praises to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his faithful on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is holy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the Lord’s ang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but for a momen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fav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for a life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eping may tar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n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joy come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rn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for me, I sai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prosperi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I shall never be move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476360"/>
            <a:ext cx="883908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favor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d established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 strong mount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id your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as dismaye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, O Lord, I cri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made supplica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What profit is t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go down to the p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8:28Z</dcterms:modified>
  <cp:revision>59</cp:revision>
  <dc:subject/>
  <dc:title>PowerPoint Presentation</dc:title>
</cp:coreProperties>
</file>