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0ED-F722-45B9-A73D-4A67DE96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2EE-385B-43D1-B984-CC632F51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91B-DE3C-4DDB-97FA-65846640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6A0-1864-4E16-BA61-2C0099EB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0FB-B263-4E9A-9048-E0B27F7A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92E-9D56-4891-AAFB-2E4B12B5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DCD-BDD2-4050-8EB6-7D8E52B4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CD6-EBED-4440-8152-95EEEF0B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8E2-C663-4303-B80A-73334723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93B-9739-47F8-BA75-9A31CF7A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54C-9F92-4469-9077-3A5A4EE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3B5-477A-4AC2-B923-31B738B2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7907-E322-4551-9D6D-3B52CCC22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2080" y="1143000"/>
            <a:ext cx="88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Is. 6: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223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, All Saints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the Ruler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mighty in battl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735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your heads, O gate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e lifted u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ancient door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 Ruler of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the Ruler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f hos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ler of glory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78680" y="1143000"/>
            <a:ext cx="16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4:3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,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4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12536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is the Lor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fullness thereof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ld and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dwell there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 has founded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riv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asc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o shall 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’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have cle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nds and pure heart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do not lift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souls to what is fal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o not swear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will receive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vindication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thei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is the gener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ose who seek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seek the fa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Jacob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7352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ds, O gate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 lifted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ancient door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 Ruler of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53:50Z</dcterms:modified>
  <cp:revision>47</cp:revision>
  <dc:subject/>
  <dc:title>PowerPoint Presentation</dc:title>
</cp:coreProperties>
</file>