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c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scension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ince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 ga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peopl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Abra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hields of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long t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highly exalte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490760"/>
            <a:ext cx="88390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p your hands, all peopl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ut to Go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ud songs of jo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, the Most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o be fea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great Rul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all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ubdued peopl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ations under our fee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hos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itage for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ride of Jacob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God lov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gone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 sh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th the sou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a trump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 t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praises to our Rul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prais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is the Rul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ear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praises with a psal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reigns over the nation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sits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holy thr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2:53Z</dcterms:modified>
  <cp:revision>93</cp:revision>
  <dc:subject/>
  <dc:title>PowerPoint Presentation</dc:title>
</cp:coreProperties>
</file>