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9D0-592B-4B5F-8D77-7C31B146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8E3-41FE-4315-AF11-F632E4A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BB8-2558-41B7-BED3-6CD09545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212-E911-4800-82D4-49111540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B7D-305B-490D-9D6D-0F209B2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376-5B7B-41DF-91A2-0A400064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38C-33FA-48EF-85B4-6CC0DBE5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21A-5159-43DB-BB85-B0BAE2F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290-E193-4637-9FA7-8DBDE58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07F-0BA8-4C4C-8110-B0EADF7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C06-4471-49AA-831F-EE2640B7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B77-9D72-4BCA-8E50-235F0953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4951-34B7-4B9E-AE33-C580DC8A2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vening Prayer, 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ph. 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rong in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e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migh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keep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all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keep your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going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coming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is time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 evermor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63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for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3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Funerals, Memorial Services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s. of Sol. 5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ove for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ft up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hill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whence d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lp co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lp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hea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a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Lord will not l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foot be mov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ho keeps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not slumb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the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keeps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ll neither slumb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slee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your keep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your sh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right h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un sha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ite you by da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the moon by n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7:49Z</dcterms:modified>
  <cp:revision>22</cp:revision>
  <dc:subject/>
  <dc:title>Psalm</dc:title>
</cp:coreProperties>
</file>