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5CD9-B29B-4D7A-B62B-19EBF50EB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DE16-B0F0-4BF8-BE88-D263346BF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0CE8-5C55-4A76-A900-389E4FA51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0406-305E-468A-B27E-357CFB67B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BDF2-ED76-410E-80CC-C41D11013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2F61-B02D-4989-A73E-F5CADCAA4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C9F9-12A5-4B11-AA00-01CD55A7B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5685-CA21-4A68-A65B-E60E5F9A2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841B-1C85-4CC3-9E4A-90C6A33B5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4193-8612-4F38-B259-AD2787AD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BF0C-B02B-422D-BE65-57FB0949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9801-E079-4703-BF9B-9F1B2498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54BA2-4038-4C39-A89F-F3D5105DE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57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salm 119:1-8, 33-48, 129-14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066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1 </a:t>
            </a:r>
            <a:r>
              <a:rPr b="0" i="1" lang="en-US" sz="4000" spc="-1" strike="noStrike">
                <a:solidFill>
                  <a:srgbClr val="333399"/>
                </a:solidFill>
                <a:latin typeface="Times New Roman"/>
              </a:rPr>
              <a:t>(General)</a:t>
            </a:r>
            <a:r>
              <a:rPr b="0" i="1" lang="en-US" sz="4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s. 119:1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590920"/>
            <a:ext cx="85341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word is 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mp to my f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 light to my path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19:1-8,33-48,129-14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will praise you wi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 upright hear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I learn you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ighteous ordinanc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66760" y="220824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will observe your statutes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forsake me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 utterly!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3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Teach me, O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way of your statute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I will keep i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the en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34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ive me understanding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t I may keep your law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observe it wi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whole hear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35</a:t>
            </a: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ad me in the pa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your commandment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I delight in i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36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cline my hear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your testimonie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not to gain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37</a:t>
            </a: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urn my eyes fro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oking at vanitie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give 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fe in your way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38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onfirm to your servan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r promis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ich is for thos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fear you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39</a:t>
            </a: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urn away the reproac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ich I drea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your ordinanc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re goo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66760" y="184320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40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hold, I lo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your precepts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your righteousnes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ive me life!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066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2 </a:t>
            </a:r>
            <a:r>
              <a:rPr b="0" i="1" lang="en-US" sz="4000" spc="-1" strike="noStrike">
                <a:solidFill>
                  <a:srgbClr val="333399"/>
                </a:solidFill>
                <a:latin typeface="Times New Roman"/>
              </a:rPr>
              <a:t>(General)</a:t>
            </a:r>
            <a:r>
              <a:rPr b="0" i="1" lang="en-US" sz="4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s. 119: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2666880"/>
            <a:ext cx="85341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hall walk at liber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I have sou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precepts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19:1-8,33-48,129-14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41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Let your steadfast lo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me to me, O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salvation accord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your promise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4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n shall I have an answe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those who taunt m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I trust in your wor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43</a:t>
            </a: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ake not the word of tru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tterly out of my mou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my hope i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your ordinanc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44</a:t>
            </a: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will keep y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aw continuall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ever and ever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45</a:t>
            </a: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I shall walk at libert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I have sough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precept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46</a:t>
            </a: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will also speak of y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estimonies before rulers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shall not b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ut to shame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47</a:t>
            </a: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I find my deligh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your commandment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ich I lov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184320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48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revere your commandment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ich I lov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I will meditat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n your statutes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29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testimoni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re wonderful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refore my soul keeps them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30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unfolding of y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ords gives light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t imparts understand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the simpl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66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3 </a:t>
            </a:r>
            <a:r>
              <a:rPr b="0" i="1" lang="en-US" sz="4000" spc="-1" strike="noStrike">
                <a:solidFill>
                  <a:srgbClr val="333399"/>
                </a:solidFill>
                <a:latin typeface="Times New Roman"/>
              </a:rPr>
              <a:t>(General)</a:t>
            </a:r>
            <a:r>
              <a:rPr b="0" i="1" lang="en-US" sz="4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s. 119:1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362320"/>
            <a:ext cx="85341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word is 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mp unto my f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 light unto my path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19:1-8,33-48,129-14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31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open mouth I pan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cause I long fo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commandment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32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urn to me and b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racious to m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you are just t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ose who love your nam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33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Keep steady my step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ccording to your promis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let no iniquit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et dominion over m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34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edeem me from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uman oppressio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t I may keep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r precept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35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ke your fa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hine upon your servan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each me your statut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66760" y="184320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36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eyes sh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treams of tear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cause your law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s not kept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66760" y="265104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37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ighteous are you, O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right are your judgment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38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have appointed y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estimonies i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ighteousnes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in all faithfulnes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39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zeal consumes 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cause my fo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get your word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66760" y="265104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40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r promise is well trie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your servant loves i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066680"/>
            <a:ext cx="86104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lessed are those who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ay is blameles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walk in the law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he Lord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41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am small and despise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et I do not forge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precept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42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r righteousnes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s righteous for ever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your law is tru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43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rouble and anguis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ve come upon 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ut your commandmen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re my deligh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66760" y="184320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44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r testimoni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re righteous for ever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ive me understand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t I may live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lessed are those wh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keep God’s testimonie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seek Go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their whole heart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66760" y="265104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who also do no wrong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ut walk in God’s way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have command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r precept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be kept diligentl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that my ways ma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 steadfas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keeping your statute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n I shall not b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ut to sham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aving my eyes fix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n your commandment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3T14:00:19Z</dcterms:created>
  <dc:creator>First Baptist Church </dc:creator>
  <dc:description/>
  <dc:language>en-US</dc:language>
  <cp:lastModifiedBy>student</cp:lastModifiedBy>
  <dcterms:modified xsi:type="dcterms:W3CDTF">2001-10-31T16:57:26Z</dcterms:modified>
  <cp:revision>18</cp:revision>
  <dc:subject/>
  <dc:title>Psalm</dc:title>
</cp:coreProperties>
</file>