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57200" y="457200"/>
            <a:ext cx="8686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2286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salm 4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"/>
          <p:cNvSpPr/>
          <p:nvPr/>
        </p:nvSpPr>
        <p:spPr>
          <a:xfrm>
            <a:off x="0" y="2590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ell to every generati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the L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ll be our guid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48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0" y="9223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SPONSE 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(General)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      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Ps. 48:13</a:t>
            </a:r>
            <a:r>
              <a:rPr b="0" i="1" lang="en-US" sz="2200" spc="-1" strike="noStrike">
                <a:solidFill>
                  <a:srgbClr val="333399"/>
                </a:solidFill>
                <a:latin typeface="Times New Roman"/>
              </a:rPr>
              <a:t>c, 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14</a:t>
            </a:r>
            <a:r>
              <a:rPr b="0" i="1" lang="en-US" sz="2200" spc="-1" strike="noStrike">
                <a:solidFill>
                  <a:srgbClr val="333399"/>
                </a:solidFill>
                <a:latin typeface="Times New Roman"/>
              </a:rPr>
              <a:t>c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1476360"/>
            <a:ext cx="8839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9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have though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n your steadfast lov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 Go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 the mids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f your temple.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04920" y="1003320"/>
            <a:ext cx="8839080" cy="48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0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s your name, O Go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o your praise reache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the ends of the eart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our right hand is fille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ith victory;</a:t>
            </a:r>
            <a:br>
              <a:rPr sz="4800"/>
            </a:b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1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et Mount Zion be gla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04920" y="1003320"/>
            <a:ext cx="8839080" cy="48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et the daughters o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Judah rejoic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ecause of your judgments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2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alk about Zion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go round about it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umber its tower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3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onsider well its rampart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o through its citadels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at you may tell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next generation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04920" y="1476360"/>
            <a:ext cx="8839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4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“This is Go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ur Go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or ever and ever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God will be our guid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or ever.”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1674720"/>
            <a:ext cx="883908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reat is the Lor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greatly to be praise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the city of our God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ose holy mountain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eautiful in elevation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s the jo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f all the earth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04920" y="1293840"/>
            <a:ext cx="883908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ount Zion, in the far north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city of the great Rule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3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ithin its citadels Go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as proven a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ure defense.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04920" y="2651040"/>
            <a:ext cx="883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4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lo, the kings assemble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y marched togethe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5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s soon as they saw it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y were astounde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y were in panic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y took to flight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6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rembling took hol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f them ther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guish as of a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oman in travail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2284560"/>
            <a:ext cx="8839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7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s when an eas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ind shatter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ships of Tarshis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04920" y="820800"/>
            <a:ext cx="883908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8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s we have hear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o we have see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the city of th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ord of host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the city of our Go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ich God establishe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eve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student</cp:lastModifiedBy>
  <dcterms:modified xsi:type="dcterms:W3CDTF">2001-10-26T14:13:08Z</dcterms:modified>
  <cp:revision>97</cp:revision>
  <dc:subject/>
  <dc:title>PowerPoint Presentation</dc:title>
</cp:coreProperties>
</file>