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4D1F-0FBC-4FFA-8C61-C47638D1D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D175-CE0D-4780-BE1C-8070F280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FE34-7334-481B-9F56-73109DA1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EC3B-4A25-40AD-8BAE-083B9BCE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83B7-C08A-43C6-9FFA-A50D09A3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22A9-4922-4FD9-8F5A-724376AA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9121-C5FF-4D61-955A-A980D2DF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D142-E289-46F1-804A-31A2F6AC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2C1C-73A4-40BF-B3D7-F7C693A6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8B45-C1BD-4FB7-BDC6-7DAF728F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2925-6F6A-4A02-8934-3FBA85DB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7636-9A5B-4FAF-84CF-8A92AD98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C65E-47F3-4347-B20B-733CCB444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16:5-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66688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serve me, 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in you I take refug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6:5-1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0840" y="1523880"/>
            <a:ext cx="108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16: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2952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Easter &amp; Gener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1337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od always before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is gl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oul rejoic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6:5-1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994440" y="1219320"/>
            <a:ext cx="164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16:8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,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9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22320"/>
            <a:ext cx="584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393840"/>
            <a:ext cx="8839080" cy="59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is my chosen por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y cup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hold my lo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ines have fallen for 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pleasant place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have a glorious herita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bless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gives me counsel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ven at ni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heart instructs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47636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have set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ways before m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is a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right han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shall not be moved.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fore my heart is gl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y soul rejoice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body also dwells secu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you do no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me up to Sheo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r let your godly on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e the p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308240"/>
            <a:ext cx="883908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show me the path of lif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you presen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re is fullness of jo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your right hand 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leasures for evermor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3T15:34:50Z</dcterms:modified>
  <cp:revision>35</cp:revision>
  <dc:subject/>
  <dc:title>PowerPoint Presentation</dc:title>
</cp:coreProperties>
</file>