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FF93-BB69-41C8-BFAE-739BA86FA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BF62-8FE8-4BC7-8EBF-1FAAF98C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7769-A4DE-4223-B226-97A4C12C0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5AB5-6675-457A-A07F-10C7C6573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85A7-F11C-4102-9884-3A0DC352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A18A-E0A6-4E42-954D-0A555498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70C5-E3D0-436F-879D-07FE960D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7385-632B-4F64-8D2B-320836A3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1C63-C586-466D-9E8F-6EA25691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32B5-43D1-4C76-84A2-8BEB4F6D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5B80-8CF3-47D1-9BD0-D88ADF64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10CB-F35A-48F5-8756-C3156FA8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6DED-42BA-450E-A6C4-0E7EC770E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9:11-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te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eopl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lorious dee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9:11-2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22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9:1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735200"/>
            <a:ext cx="8839080" cy="26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0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ut them in fear, O Lor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the nations know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that they are mortal!    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066680"/>
            <a:ext cx="8839080" cy="40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br>
              <a:rPr sz="3000"/>
            </a:b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ing praises to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who dwells in Zio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ll among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peoples God’s deed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who avenges blo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is mindful of the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does not forge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the cry of the afflict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3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gracious to me, O Lord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See what I suffer from tho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who hate m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are the One who lifts 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up from the gates of death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111320"/>
            <a:ext cx="8839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4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that I may recoun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all your prais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and, in the gates of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daughter of Zion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rejoice in your deliverance.    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5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nations have sunk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in the pit which they mad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ir own foot has bee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caught in the ne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which they hi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6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is made known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he Lord has execut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judgmen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wicked are snared i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the work of their own hand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638280"/>
            <a:ext cx="8839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7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wicked shall depar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o Sheol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all the nations that forget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8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For the needy sha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not always be forgotte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and the hope of the poo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shall not perish for ev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9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ise, O Lord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Let not mortals prevail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the nations b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judged before you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03:08Z</dcterms:modified>
  <cp:revision>26</cp:revision>
  <dc:subject/>
  <dc:title>PowerPoint Presentation</dc:title>
</cp:coreProperties>
</file>