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71C-68C4-4011-A3ED-9AB90424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07E-063A-4269-B75F-4026D9FC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702-3C71-4E4B-863A-156CD4A8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8B6-C362-4753-9CDA-E78C3F36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1F9-62CB-4546-860D-25B2CC19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0A3-C22E-46ED-B8A2-C1439C33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186-B9FC-4BFE-AD7D-FCCC478E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9FE-D9E1-4FAE-B276-56F09B77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FD6-8B95-4042-B6A1-172E2510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E3B-4F32-4E62-8054-C6B46103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142-21E5-4E08-8764-B770E0EC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40F-AD90-4789-912B-298F123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35D2-BDAB-424A-8EF0-85F37BCD3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ign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69120" y="1701720"/>
            <a:ext cx="268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ann J. Schul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Frances E. C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223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New Year, Trinity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sheep and ox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the beas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f the fie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irds of the ai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 fish of the se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ever passes al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paths of the se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735200"/>
            <a:ext cx="883908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majestic is your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in all the earth!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and gr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y th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 of earth and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223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oseph R. Renvi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ara. by Phillip Fraz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1600"/>
            <a:ext cx="88390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majestic is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ame in all the eart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glory is chan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bove the heave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y the mou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babes and infan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set up a defen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gainst your fo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o still the ene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the avenger.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look at your heave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work of your fing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oon and the st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ich you have establish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are human be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you are mindful of th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ortals that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are for the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made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ittle less than Go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rowned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ith glory and hon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given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dominion ove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orks of your ha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put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ings under their fee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2:43Z</dcterms:modified>
  <cp:revision>23</cp:revision>
  <dc:subject/>
  <dc:title>PowerPoint Presentation</dc:title>
</cp:coreProperties>
</file>